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98E-86C1-4903-B3E2-BB7B9548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6B5-0E7A-4D6B-838F-91B2DB7B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4BB-06E1-4852-954F-0B3A7A2D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6A4-D41F-45D4-B8E3-0516608A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09DF-346B-48F6-93BE-1409E87D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3F3B-C4CF-4BA5-85D3-22951FA4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216-4B0E-46EB-8516-03D4CFAC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54B6-ADDE-46FE-B8D6-238E405C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F0C3-9FB1-4B6E-B1B8-88A3610A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0CF2-71A9-46C1-B654-A3AE5AC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9604-9065-4250-9CAA-76D8548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CCA-159F-40CC-B71A-4B463B0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0A93-8324-4528-B4FD-18C4BDE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5581-BCD9-4369-9127-72F8766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B651-728E-4181-8349-6FAE8F34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202E-525F-419B-A493-28BDA593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DDF2-7611-4F4E-B500-65F9AAD5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4B1-89C6-4E5E-B6AC-7658C711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F63-57C2-4A92-9DB0-86ECFD07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7E2-631C-4F64-82D4-CE68A3D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682-493C-48F8-86A7-8C2B4B15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F9E-F6F2-4FAB-B949-73D2E6F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E86-E9FB-4510-BF81-4426658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023-4E0E-4A52-A01A-3A9F02AB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CB51-3678-4DB2-BF02-8896EB787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20C1-0E8C-4D43-BABB-E20A01CB0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wfu.edu/adkicr2/images/teacher-point.gif&amp;imgrefurl=http://users.wfu.edu/adkicr2/leadership.html&amp;h=332&amp;w=360&amp;sz=11&amp;hl=en&amp;start=13&amp;um=1&amp;tbnid=ebIju3mmBEYk6M:&amp;tbnh=112&amp;tbnw=121&amp;prev=/images%3Fq%3Dteacher%26svnum%3D10%26um%3D1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place.com/kids/hme/6_8/brightideas/graphics/bored.jpg&amp;imgrefurl=http://www.eduplace.com/kids/hme/6_8/brightideas/6-8/instructions.html&amp;h=296&amp;w=412&amp;sz=31&amp;hl=en&amp;start=2&amp;um=1&amp;tbnid=fWhRgeyUvB9_YM:&amp;tbnh=90&amp;tbnw=125&amp;prev=/images%3Fq%3Dbored%26svnum%3D10%26um%3D1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cognito-fancydress.co.uk/images/costumes/horse.jpg&amp;imgrefurl=http://www.incognito-fancydress.co.uk/fur.htm&amp;h=300&amp;w=250&amp;sz=17&amp;hl=en&amp;start=57&amp;um=1&amp;tbnid=DZR-scR40U1lEM:&amp;tbnh=116&amp;tbnw=97&amp;prev=/images%3Fq%3Dman%2Bhorse%26start%3D40%26ndsp%3D20%26svnum%3D10%26um%3D1%26hl%3Den%26safe%3Dactive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MMPH/263067~Halle-Berry-Posters.jpg&amp;imgrefurl=http://www.allposters.com/-sp/Halle-Berry-Posters_i1222387_.htm&amp;h=425&amp;w=340&amp;sz=32&amp;hl=en&amp;start=8&amp;um=1&amp;tbnid=MeoWInhi336D1M:&amp;tbnh=126&amp;tbnw=101&amp;prev=/images%3Fq%3Dhalle%2Bberry%26svnum%3D10%26um%3D1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h.com.au/ffximage/2005/06/30/schapellecorby_wideweb__430x316.jpg&amp;imgrefurl=http://www.smh.com.au/news/world/terrified-corby-wont-give-up-fight/2005/06/30/1119724702621.html&amp;h=316&amp;w=430&amp;sz=18&amp;hl=en&amp;start=33&amp;um=1&amp;tbnid=BMAnpT5Rcp5sqM:&amp;tbnh=93&amp;tbnw=126&amp;prev=/images%3Fq%3Dbehind%2Bbars%26start%3D20%26ndsp%3D20%26svnum%3D10%26um%3D1%26hl%3Den%26safe%3Dactive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elkevejen.dk/images/brain-thinking.gif&amp;imgrefurl=http://www.maelkevejen.dk/raymond-uk/brj.html&amp;h=180&amp;w=180&amp;sz=55&amp;hl=en&amp;start=15&amp;um=1&amp;tbnid=EWfYJvzTSCB-sM:&amp;tbnh=101&amp;tbnw=101&amp;prev=/images%3Fq%3Dthinking%2Bbrain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Level 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nit 6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art 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ag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ader who exploits popular prejudices false claims and promises in order to ga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show of angry concern conceals the self-serving tactics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mago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le-rouser ,fire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ree from deception or error, set right in ideas or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b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 of thinking that the party started 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ceive ,enlighten, set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n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ess and dissatisfaction from lack of occupation or interest ,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elt a great deal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nu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sitting at the conference for over fou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or , world-weariness, li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mal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tig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pers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zarr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mag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usqu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ab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jo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n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omalou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, irregular, departing from the u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ifficult to tell if the bell schedu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omal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what is normal at N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al, atypic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usual ,aber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281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p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amaging or derogatory statement ; the act of slandering of def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twice befo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s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pers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s honesty, for he might be telling th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uendo ,calumny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4193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zar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strange, unusual, atyp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nder what sort of life it would be to live in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zar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tesque, fantastic, outlan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us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, blunt , with no f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quest for a large loan for an indefinite length of time was met with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usqu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, tactless, g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racious ,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2908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jol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ax , persuade through flattery or artifice ;to deceive with soothing thoughts or fals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smile ,a joke , and a second helping of pie, she woul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j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m into doing what s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ed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inveigle, soft-soap, sweet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ti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nish severely ; to criticize seve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tig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unruly children, they settled down to study quie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stise ,rebuke, censure ,upb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447920"/>
            <a:ext cx="4648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lan with ingenuity, invent; to bring about as the result of a scheme o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r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derful excuses ; but when she tries to offer them, her uneasiness gives her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up ,devise , concoct, fabr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47920"/>
            <a:ext cx="3962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47:57Z</dcterms:created>
  <dc:creator>NPSD</dc:creator>
  <dc:description/>
  <dc:language>en-US</dc:language>
  <cp:lastModifiedBy> </cp:lastModifiedBy>
  <dcterms:modified xsi:type="dcterms:W3CDTF">2008-11-26T16:29:50Z</dcterms:modified>
  <cp:revision>6</cp:revision>
  <dc:subject/>
  <dc:title>Anomalous </dc:title>
</cp:coreProperties>
</file>