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2C1-9B78-49C9-86C5-EB59811E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FC2-B225-4EA7-AA70-7EBC3B1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025-1558-44FA-A836-DA8E19A9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0D2-8B47-4A13-A9CA-930E7BCC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211E-C761-45A2-9444-7F9F37D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3DD4-E3E7-481C-BC7E-E9798987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C401-075B-434C-8591-C86A00BE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3762-B642-448B-9CA4-399D4B40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FBAE-1700-477F-A4BD-BB586E5D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13A6-FEFA-4631-994B-F4AC548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A643-C628-4BB9-9982-52C61E5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2D8-C06C-442A-B265-025A00D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A9A-D716-4112-B85C-63B2FC8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D08-3D80-49EA-AEF8-EFAF5D4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CF6D-B13E-439D-983A-74BDDAE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18CB-A920-4C5E-B53B-1A58B6E6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289-5E2D-4E68-83CB-D44A4059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B57-4982-437F-89DE-95F00761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22-3098-4611-A69E-77331BA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8B6-4896-48E6-9FB9-CBDF2969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D46-EF53-40DF-8C74-DF90E06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48E-285E-473F-804A-798242C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E84-BCB6-4C6B-8E47-E60FF57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3DE-A96B-4D4C-A222-6ED61B4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BF1-E435-49F0-964A-1FDD7930E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26D-DBC3-4C71-8174-6E80FC34A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wfu.edu/adkicr2/images/teacher-point.gif&amp;imgrefurl=http://users.wfu.edu/adkicr2/leadership.html&amp;h=332&amp;w=360&amp;sz=11&amp;hl=en&amp;start=13&amp;um=1&amp;tbnid=ebIju3mmBEYk6M:&amp;tbnh=112&amp;tbnw=121&amp;prev=/images%3Fq%3Dteacher%26svnum%3D10%26um%3D1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place.com/kids/hme/6_8/brightideas/graphics/bored.jpg&amp;imgrefurl=http://www.eduplace.com/kids/hme/6_8/brightideas/6-8/instructions.html&amp;h=296&amp;w=412&amp;sz=31&amp;hl=en&amp;start=2&amp;um=1&amp;tbnid=fWhRgeyUvB9_YM:&amp;tbnh=90&amp;tbnw=125&amp;prev=/images%3Fq%3Dbored%26svnum%3D10%26um%3D1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cognito-fancydress.co.uk/images/costumes/horse.jpg&amp;imgrefurl=http://www.incognito-fancydress.co.uk/fur.htm&amp;h=300&amp;w=250&amp;sz=17&amp;hl=en&amp;start=57&amp;um=1&amp;tbnid=DZR-scR40U1lEM:&amp;tbnh=116&amp;tbnw=97&amp;prev=/images%3Fq%3Dman%2Bhorse%26start%3D40%26ndsp%3D20%26svnum%3D10%26um%3D1%26hl%3Den%26safe%3Dactive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MMPH/263067~Halle-Berry-Posters.jpg&amp;imgrefurl=http://www.allposters.com/-sp/Halle-Berry-Posters_i1222387_.htm&amp;h=425&amp;w=340&amp;sz=32&amp;hl=en&amp;start=8&amp;um=1&amp;tbnid=MeoWInhi336D1M:&amp;tbnh=126&amp;tbnw=101&amp;prev=/images%3Fq%3Dhalle%2Bberry%26svnum%3D10%26um%3D1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h.com.au/ffximage/2005/06/30/schapellecorby_wideweb__430x316.jpg&amp;imgrefurl=http://www.smh.com.au/news/world/terrified-corby-wont-give-up-fight/2005/06/30/1119724702621.html&amp;h=316&amp;w=430&amp;sz=18&amp;hl=en&amp;start=33&amp;um=1&amp;tbnid=BMAnpT5Rcp5sqM:&amp;tbnh=93&amp;tbnw=126&amp;prev=/images%3Fq%3Dbehind%2Bbars%26start%3D20%26ndsp%3D20%26svnum%3D10%26um%3D1%26hl%3Den%26safe%3Dactive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elkevejen.dk/images/brain-thinking.gif&amp;imgrefurl=http://www.maelkevejen.dk/raymond-uk/brj.html&amp;h=180&amp;w=180&amp;sz=55&amp;hl=en&amp;start=15&amp;um=1&amp;tbnid=EWfYJvzTSCB-sM:&amp;tbnh=101&amp;tbnw=101&amp;prev=/images%3Fq%3Dthinking%2Bbrain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580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ocabulary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Level 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nit 6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art 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agog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ader who exploits popular prejudices false claims and promises in order to ga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 show of angry concern conceals the self-serving tactics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mago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le-rouser ,fire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ree from deception or error, set right in ideas or thi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bu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 of thinking that the party started 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eive ,enlighten, set stra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nu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riness and dissatisfaction from lack of occupation or interest , bor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elt a great deal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nu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fter sitting at the conference for over fou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or , world-weariness, li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mal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tig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pers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zarr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mago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usqu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ab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jo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n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malou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, irregular, departing from the u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ifficult to tell if the bell schedu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omal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ause what is normal at N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al, atypic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usual ,aber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281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p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amaging or derogatory statement ; the act of slandering of defa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twice befo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s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pers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his honesty, for he might be telling th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uendo ,calumny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zar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strange, unusual, atyp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onder what sort of life it would be to live in 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zar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tesque, fantastic, outlan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usq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, blunt , with no form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quest for a large loan for an indefinite length of time was met with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rusqu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, tactless, g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racious ,r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2908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jol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ax , persuade through flattery or artifice ;to deceive with soothing thoughts or fals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smile ,a joke , and a second helping of pie, she woul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j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m into doing what she wa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eed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,inveigle, soft-soap, sweet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tig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nish severely ; to criticize seve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tiga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unruly children, they settled down to study quie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stise ,rebuke, censure ,upb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447920"/>
            <a:ext cx="4648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lan with ingenuity, invent; to bring about as the result of a scheme o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r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derful excuses ; but when she tries to offer them, her uneasiness gives her a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up ,devise , concoct, fabr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447920"/>
            <a:ext cx="3962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7:57Z</dcterms:created>
  <dc:creator>NPSD</dc:creator>
  <dc:description/>
  <dc:language>en-US</dc:language>
  <cp:lastModifiedBy> </cp:lastModifiedBy>
  <dcterms:modified xsi:type="dcterms:W3CDTF">2008-11-26T16:29:50Z</dcterms:modified>
  <cp:revision>6</cp:revision>
  <dc:subject/>
  <dc:title>Anomalous </dc:title>
</cp:coreProperties>
</file>