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6E88-6798-49C8-A93A-78670068D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CC91-60B7-4353-88BE-02E31C58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00DC-04AE-4666-AF49-DDEE07E11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FA7A-1630-4587-BA35-060B3D44B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8551D-0D64-47F4-B564-387E3530B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5CDB-9136-45AB-9E99-CD03A46E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22D8-FB60-496B-9612-99373C49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7883-5753-4E14-9B2E-78EBB2B6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F826-C5B0-45AB-8565-66E208F5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871A-8179-4F4D-B31A-2F365B09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A278-2EF5-48B5-B4AC-0B2C8972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5028-7142-44C8-98AF-0DB5E17A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6D441-D7C1-4CF9-BA8A-D5D96BE1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640B-F645-4374-A86C-E399DEA1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6615-C65D-4831-BF20-E7056F62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8562-DCBE-4200-892F-E787911DE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3E6A-F331-4960-9399-4DCF271E6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E929-07E0-48D6-AA32-DB4EC83C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3A98-C695-423F-A046-F7F5A19B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6CDE-B675-47CB-B147-66907C3D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2B07-167B-4274-842E-B1FD9108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C685-5AE7-41F6-9EDF-3EB2E36C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3A02-5B85-4754-916A-67D8582D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483E-C43F-44FA-933E-E7AE8EB0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1F91-D581-4EA7-8C8C-59D71FA937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F346-1DE4-45FF-B49E-08D5433CAD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sers.wfu.edu/adkicr2/images/teacher-point.gif&amp;imgrefurl=http://users.wfu.edu/adkicr2/leadership.html&amp;h=332&amp;w=360&amp;sz=11&amp;hl=en&amp;start=13&amp;um=1&amp;tbnid=ebIju3mmBEYk6M:&amp;tbnh=112&amp;tbnw=121&amp;prev=/images%3Fq%3Dteacher%26svnum%3D10%26um%3D1%26hl%3Den%26safe%3Dactive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duplace.com/kids/hme/6_8/brightideas/graphics/bored.jpg&amp;imgrefurl=http://www.eduplace.com/kids/hme/6_8/brightideas/6-8/instructions.html&amp;h=296&amp;w=412&amp;sz=31&amp;hl=en&amp;start=2&amp;um=1&amp;tbnid=fWhRgeyUvB9_YM:&amp;tbnh=90&amp;tbnw=125&amp;prev=/images%3Fq%3Dbored%26svnum%3D10%26um%3D1%26hl%3Den%26safe%3Dactive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incognito-fancydress.co.uk/images/costumes/horse.jpg&amp;imgrefurl=http://www.incognito-fancydress.co.uk/fur.htm&amp;h=300&amp;w=250&amp;sz=17&amp;hl=en&amp;start=57&amp;um=1&amp;tbnid=DZR-scR40U1lEM:&amp;tbnh=116&amp;tbnw=97&amp;prev=/images%3Fq%3Dman%2Bhorse%26start%3D40%26ndsp%3D20%26svnum%3D10%26um%3D1%26hl%3Den%26safe%3Dactive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agecache2.allposters.com/images/pic/MMPH/263067~Halle-Berry-Posters.jpg&amp;imgrefurl=http://www.allposters.com/-sp/Halle-Berry-Posters_i1222387_.htm&amp;h=425&amp;w=340&amp;sz=32&amp;hl=en&amp;start=8&amp;um=1&amp;tbnid=MeoWInhi336D1M:&amp;tbnh=126&amp;tbnw=101&amp;prev=/images%3Fq%3Dhalle%2Bberry%26svnum%3D10%26um%3D1%26hl%3Den%26safe%3Dactive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mh.com.au/ffximage/2005/06/30/schapellecorby_wideweb__430x316.jpg&amp;imgrefurl=http://www.smh.com.au/news/world/terrified-corby-wont-give-up-fight/2005/06/30/1119724702621.html&amp;h=316&amp;w=430&amp;sz=18&amp;hl=en&amp;start=33&amp;um=1&amp;tbnid=BMAnpT5Rcp5sqM:&amp;tbnh=93&amp;tbnw=126&amp;prev=/images%3Fq%3Dbehind%2Bbars%26start%3D20%26ndsp%3D20%26svnum%3D10%26um%3D1%26hl%3Den%26safe%3Dactive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elkevejen.dk/images/brain-thinking.gif&amp;imgrefurl=http://www.maelkevejen.dk/raymond-uk/brj.html&amp;h=180&amp;w=180&amp;sz=55&amp;hl=en&amp;start=15&amp;um=1&amp;tbnid=EWfYJvzTSCB-sM:&amp;tbnh=101&amp;tbnw=101&amp;prev=/images%3Fq%3Dthinking%2Bbrain%26svnum%3D10%26um%3D1%26hl%3Den%26safe%3Dactive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580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Vocabulary 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Level F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Unit 6 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Part A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magogu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eader who exploits popular prejudices false claims and promises in order to gain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a show of angry concern conceals the self-serving tactics of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magogu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bble-rouser ,fireb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257800" y="1600200"/>
            <a:ext cx="3124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sabu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free from deception or error, set right in ideas or think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had t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sabu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er of thinking that the party started a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 p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ceive ,enlighten, set straigh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2133720"/>
            <a:ext cx="37339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nnu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riness and dissatisfaction from lack of occupation or interest , bore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felt a great deal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nu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fter sitting at the conference for over four hou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guor , world-weariness, listless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2209680"/>
            <a:ext cx="40384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malou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astig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spersion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tri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izarr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magogu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rusqu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sab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ajol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nu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nomalous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normal , irregular, departing from the usu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difficult to tell if the bell schedule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nomalo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ecause what is normal at NP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ptional, atypical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usual ,aberr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1676520"/>
            <a:ext cx="328140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spers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damaging or derogatory statement ; the act of slandering of defa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twice befor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asting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persion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his honesty, for he might be telling the tru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uendo ,calumny 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ni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419720" y="2286000"/>
            <a:ext cx="441936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izar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remely strange, unusual, atyp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wonder what sort of life it would be to live in th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izar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tesque, fantastic, outland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419720" y="1523880"/>
            <a:ext cx="47242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rusqu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rupt, blunt , with no forma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request for a large loan for an indefinite length of time was met with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rusqu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usa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t, tactless, gru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gracious ,ru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4429080" cy="45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ajole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coax , persuade through flattery or artifice ;to deceive with soothing thoughts or false prom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a smile ,a joke , and a second helping of pie, she woul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jo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im into doing what she wan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heed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,inveigle, soft-soap, sweet tal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1600200"/>
            <a:ext cx="41907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stiga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punish severely ; to criticize sever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stiga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unruly children, they settled down to study quie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stise ,rebuke, censure ,upbra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1447920"/>
            <a:ext cx="464832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tri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plan with ingenuity, invent; to bring about as the result of a scheme or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ca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triv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nderful excuses ; but when she tries to offer them, her uneasiness gives her a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up ,devise , concoct, fabric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1447920"/>
            <a:ext cx="396252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4T18:47:57Z</dcterms:created>
  <dc:creator>NPSD</dc:creator>
  <dc:description/>
  <dc:language>en-US</dc:language>
  <cp:lastModifiedBy> </cp:lastModifiedBy>
  <dcterms:modified xsi:type="dcterms:W3CDTF">2008-11-26T16:29:50Z</dcterms:modified>
  <cp:revision>6</cp:revision>
  <dc:subject/>
  <dc:title>Anomalous </dc:title>
</cp:coreProperties>
</file>