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87C-EC9B-49CC-9A6D-5F953B63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247-B176-4714-A22C-C5CE6CDE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0E2-E19F-473D-A665-813683C7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504-FBFF-474A-8CF6-2CF3E8E1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BAE6-686E-4422-9D1B-D68719EF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1318-1450-4E44-BB11-1DD91A88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1A9F-9896-4BD9-88D4-80B952DA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4981-777A-4FD5-9458-2FC6E2E9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CD01-22AC-4095-BDF8-D7A51CE0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21AE-D048-40D4-A1D9-E1D83391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A511-D4A9-448D-A2A6-7AE478FD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BC2-845C-40CE-B0EB-B4088018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4E8F-3B40-4782-946E-3192925F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E0FA-CEE7-4E8D-ABD3-69DC28FF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A025-9FDA-4933-A421-C82540C3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1E1E-EEDB-4323-A05A-A161FB3E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9742-63BF-472B-B5A0-3BFC3D10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FDB-9180-405B-A549-97EB57E7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307-B840-41FA-B64A-4AFB2A79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4E8-7CE5-4598-ABDA-1537E9A8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DF4-6D13-46D6-98E4-3E45CF29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ED2-3100-4070-AAE9-0549475F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D2C-6F59-4577-882F-94E7EC4A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30D-1A7B-4049-B8E1-67452929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DA49-B340-4643-BE4E-82646A11C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2339-25C4-4BC0-9471-7785959527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wfu.edu/adkicr2/images/teacher-point.gif&amp;imgrefurl=http://users.wfu.edu/adkicr2/leadership.html&amp;h=332&amp;w=360&amp;sz=11&amp;hl=en&amp;start=13&amp;um=1&amp;tbnid=ebIju3mmBEYk6M:&amp;tbnh=112&amp;tbnw=121&amp;prev=/images%3Fq%3Dteacher%26svnum%3D10%26um%3D1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duplace.com/kids/hme/6_8/brightideas/graphics/bored.jpg&amp;imgrefurl=http://www.eduplace.com/kids/hme/6_8/brightideas/6-8/instructions.html&amp;h=296&amp;w=412&amp;sz=31&amp;hl=en&amp;start=2&amp;um=1&amp;tbnid=fWhRgeyUvB9_YM:&amp;tbnh=90&amp;tbnw=125&amp;prev=/images%3Fq%3Dbored%26svnum%3D10%26um%3D1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ncognito-fancydress.co.uk/images/costumes/horse.jpg&amp;imgrefurl=http://www.incognito-fancydress.co.uk/fur.htm&amp;h=300&amp;w=250&amp;sz=17&amp;hl=en&amp;start=57&amp;um=1&amp;tbnid=DZR-scR40U1lEM:&amp;tbnh=116&amp;tbnw=97&amp;prev=/images%3Fq%3Dman%2Bhorse%26start%3D40%26ndsp%3D20%26svnum%3D10%26um%3D1%26hl%3Den%26safe%3Dactive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cache2.allposters.com/images/pic/MMPH/263067~Halle-Berry-Posters.jpg&amp;imgrefurl=http://www.allposters.com/-sp/Halle-Berry-Posters_i1222387_.htm&amp;h=425&amp;w=340&amp;sz=32&amp;hl=en&amp;start=8&amp;um=1&amp;tbnid=MeoWInhi336D1M:&amp;tbnh=126&amp;tbnw=101&amp;prev=/images%3Fq%3Dhalle%2Bberry%26svnum%3D10%26um%3D1%26hl%3Den%26safe%3Dactiv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mh.com.au/ffximage/2005/06/30/schapellecorby_wideweb__430x316.jpg&amp;imgrefurl=http://www.smh.com.au/news/world/terrified-corby-wont-give-up-fight/2005/06/30/1119724702621.html&amp;h=316&amp;w=430&amp;sz=18&amp;hl=en&amp;start=33&amp;um=1&amp;tbnid=BMAnpT5Rcp5sqM:&amp;tbnh=93&amp;tbnw=126&amp;prev=/images%3Fq%3Dbehind%2Bbars%26start%3D20%26ndsp%3D20%26svnum%3D10%26um%3D1%26hl%3Den%26safe%3Dactive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elkevejen.dk/images/brain-thinking.gif&amp;imgrefurl=http://www.maelkevejen.dk/raymond-uk/brj.html&amp;h=180&amp;w=180&amp;sz=55&amp;hl=en&amp;start=15&amp;um=1&amp;tbnid=EWfYJvzTSCB-sM:&amp;tbnh=101&amp;tbnw=101&amp;prev=/images%3Fq%3Dthinking%2Bbrain%26svnum%3D10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580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Level F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Unit 6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art A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agog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eader who exploits popular prejudices false claims and promises in order to gain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a show of angry concern conceals the self-serving tactics of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magog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bble-rouser ,fire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124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ab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ree from deception or error, set right in ideas or thin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d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abu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 of thinking that the party started 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p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ceive ,enlighten, set stra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133720"/>
            <a:ext cx="3733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nu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riness and dissatisfaction from lack of occupation or interest , bore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elt a great deal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nu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fter sitting at the conference for over four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or , world-weariness, listles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209680"/>
            <a:ext cx="4038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malou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stig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pers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r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izarr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magog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rusqu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sab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jol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nu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nomalou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normal , irregular, departing from the us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difficult to tell if the bell schedule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omalo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what is normal at N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ional, atypic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usual ,aber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676520"/>
            <a:ext cx="32814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per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amaging or derogatory statement ; the act of slandering of defa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twice befor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st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persi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his honesty, for he might be telling th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uendo ,calumny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i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4193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zar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ly strange, unusual, atyp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onder what sort of life it would be to live in 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zar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tesque, fantastic, outland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usq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upt, blunt , with no form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request for a large loan for an indefinite length of time was met with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rusqu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us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t, tactless, gru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gracious ,ru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42908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jole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oax , persuade through flattery or artifice ;to deceive with soothing thoughts or false prom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a smile ,a joke , and a second helping of pie, she woul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j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m into doing what she wa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eed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,inveigle, soft-soap, sweet 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600200"/>
            <a:ext cx="4190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tig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unish severely ; to criticize sever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stiga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unruly children, they settled down to study quie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stise ,rebuke, censure ,upbr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447920"/>
            <a:ext cx="46483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lan with ingenuity, invent; to bring about as the result of a scheme or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c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r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nderful excuses ; but when she tries to offer them, her uneasiness gives her a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up ,devise , concoct, fabr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447920"/>
            <a:ext cx="39625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8:47:57Z</dcterms:created>
  <dc:creator>NPSD</dc:creator>
  <dc:description/>
  <dc:language>en-US</dc:language>
  <cp:lastModifiedBy> </cp:lastModifiedBy>
  <dcterms:modified xsi:type="dcterms:W3CDTF">2008-11-26T16:29:50Z</dcterms:modified>
  <cp:revision>6</cp:revision>
  <dc:subject/>
  <dc:title>Anomalous </dc:title>
</cp:coreProperties>
</file>