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907-3412-4068-846A-73CAABB4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ABF-A41D-4997-A1CB-2671FC50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C0E-9244-49B1-80BA-03C7F6A7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549-3D80-45E3-AF8E-8B2B2AF9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34BE-3103-4E87-A9E8-8121079A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D923-314B-44D8-B501-D480110B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B67-A608-4C5B-AF28-F40E7F04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0F2C-337F-4698-9396-F6F4919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A172-59C0-4137-9842-7C167296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57B2-D877-4525-A33F-192C4A1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DB60-2DC0-4494-B9B5-EB0CA83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C21-371E-46B5-BCC9-7D9CFF7A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5A58-CB81-4D4B-828C-EC9157B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E13-588C-46D3-B310-EED70A0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284B-5FE9-4FBB-91A2-BE3AB1D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7384-E529-4306-AF1B-6EF80473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9EA8-3470-465D-825D-A934B4E8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D0E-A74F-4D2D-B4B8-40F6D57E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369-6756-4A31-91A7-B64A1B3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123-87BE-4C19-BC20-E1082D0D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77A-5C90-4D63-B837-3D9EA736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3FD-1D6A-4040-826C-3842A2D5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BD9-1BC9-42A8-A7C5-7E967BA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9D8-3452-4059-AD23-34BB20A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E4B1-85F2-44DF-929A-5BCE7653F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2E1E-308B-40B0-AEEE-AB0AC0F40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wfu.edu/adkicr2/images/teacher-point.gif&amp;imgrefurl=http://users.wfu.edu/adkicr2/leadership.html&amp;h=332&amp;w=360&amp;sz=11&amp;hl=en&amp;start=13&amp;um=1&amp;tbnid=ebIju3mmBEYk6M:&amp;tbnh=112&amp;tbnw=121&amp;prev=/images%3Fq%3Dteacher%26svnum%3D10%26um%3D1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place.com/kids/hme/6_8/brightideas/graphics/bored.jpg&amp;imgrefurl=http://www.eduplace.com/kids/hme/6_8/brightideas/6-8/instructions.html&amp;h=296&amp;w=412&amp;sz=31&amp;hl=en&amp;start=2&amp;um=1&amp;tbnid=fWhRgeyUvB9_YM:&amp;tbnh=90&amp;tbnw=125&amp;prev=/images%3Fq%3Dbored%26svnum%3D10%26um%3D1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cognito-fancydress.co.uk/images/costumes/horse.jpg&amp;imgrefurl=http://www.incognito-fancydress.co.uk/fur.htm&amp;h=300&amp;w=250&amp;sz=17&amp;hl=en&amp;start=57&amp;um=1&amp;tbnid=DZR-scR40U1lEM:&amp;tbnh=116&amp;tbnw=97&amp;prev=/images%3Fq%3Dman%2Bhorse%26start%3D40%26ndsp%3D20%26svnum%3D10%26um%3D1%26hl%3Den%26safe%3Dactive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MMPH/263067~Halle-Berry-Posters.jpg&amp;imgrefurl=http://www.allposters.com/-sp/Halle-Berry-Posters_i1222387_.htm&amp;h=425&amp;w=340&amp;sz=32&amp;hl=en&amp;start=8&amp;um=1&amp;tbnid=MeoWInhi336D1M:&amp;tbnh=126&amp;tbnw=101&amp;prev=/images%3Fq%3Dhalle%2Bberry%26svnum%3D10%26um%3D1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h.com.au/ffximage/2005/06/30/schapellecorby_wideweb__430x316.jpg&amp;imgrefurl=http://www.smh.com.au/news/world/terrified-corby-wont-give-up-fight/2005/06/30/1119724702621.html&amp;h=316&amp;w=430&amp;sz=18&amp;hl=en&amp;start=33&amp;um=1&amp;tbnid=BMAnpT5Rcp5sqM:&amp;tbnh=93&amp;tbnw=126&amp;prev=/images%3Fq%3Dbehind%2Bbars%26start%3D20%26ndsp%3D20%26svnum%3D10%26um%3D1%26hl%3Den%26safe%3Dactive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elkevejen.dk/images/brain-thinking.gif&amp;imgrefurl=http://www.maelkevejen.dk/raymond-uk/brj.html&amp;h=180&amp;w=180&amp;sz=55&amp;hl=en&amp;start=15&amp;um=1&amp;tbnid=EWfYJvzTSCB-sM:&amp;tbnh=101&amp;tbnw=101&amp;prev=/images%3Fq%3Dthinking%2Bbrain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Level 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nit 6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art 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ag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ader who exploits popular prejudices false claims and promises in order to ga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show of angry concern conceals the self-serving tactics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mago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le-rouser ,fire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ree from deception or error, set right in ideas or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b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 of thinking that the party started 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ceive ,enlighten, set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n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ess and dissatisfaction from lack of occupation or interest ,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elt a great deal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nu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sitting at the conference for over fou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or , world-weariness, li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mal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tig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pers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zarr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mag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usqu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ab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jo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n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omalou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, irregular, departing from the u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ifficult to tell if the bell schedu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omal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what is normal at N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al, atypic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usual ,aber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281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p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amaging or derogatory statement ; the act of slandering of def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twice befo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s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pers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s honesty, for he might be telling th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uendo ,calumny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4193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zar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strange, unusual, atyp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nder what sort of life it would be to live in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zar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tesque, fantastic, outlan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us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, blunt , with no f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quest for a large loan for an indefinite length of time was met with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usqu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, tactless, g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racious ,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2908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jol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ax , persuade through flattery or artifice ;to deceive with soothing thoughts or fals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smile ,a joke , and a second helping of pie, she woul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j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m into doing what s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ed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inveigle, soft-soap, sweet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ti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nish severely ; to criticize seve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tig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unruly children, they settled down to study quie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stise ,rebuke, censure ,upb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447920"/>
            <a:ext cx="4648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lan with ingenuity, invent; to bring about as the result of a scheme o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r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derful excuses ; but when she tries to offer them, her uneasiness gives her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up ,devise , concoct, fabr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47920"/>
            <a:ext cx="3962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47:57Z</dcterms:created>
  <dc:creator>NPSD</dc:creator>
  <dc:description/>
  <dc:language>en-US</dc:language>
  <cp:lastModifiedBy> </cp:lastModifiedBy>
  <dcterms:modified xsi:type="dcterms:W3CDTF">2008-11-26T16:29:50Z</dcterms:modified>
  <cp:revision>6</cp:revision>
  <dc:subject/>
  <dc:title>Anomalous </dc:title>
</cp:coreProperties>
</file>