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70A-38CE-4BE9-9439-5EAC64F1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66F-C35C-4BBA-8C06-E4D4EBA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2F2-069C-4C51-BF97-E4FACFE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D53-F8AB-4A0C-ABCE-1A169D48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6B42-97D9-4C77-B8AA-07C3544E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EC0-8948-494A-82E4-1FF21FB2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0876-BA43-4E48-99B8-75530DDD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158E-3B6B-4480-AFD8-C5C1FDE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2DE-1DC4-48E7-AA83-043CD97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7DA1-85CC-44C2-A8E1-5D0402A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3722-CE2F-402A-9DF9-37B1D07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C7A-EC60-4420-9E7B-81BA5B9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AC5A-4EE4-456B-A475-E2FBD69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EE0A-C1A1-47AE-B792-3DD043DD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C9E7-283B-4024-95E5-C5E0E917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8736-6820-4619-AB58-C0500A8D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40A0-A7D6-430F-8BAE-B17DED20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B80-A10E-4545-BC86-25D24894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AFF-1DBA-43D6-8009-10D5344D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A21-596E-4613-B33B-0B3B03C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639-8E69-4BEE-B190-B27CDC0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F49-9014-4935-955A-464FF81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49C-918D-4E73-8CBC-6BEE805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49B-F32F-4F1A-B19C-1744052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A5FA-A1A9-461E-80DF-A755C666B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4E61-3F3F-49B7-B257-4247F0736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wfu.edu/adkicr2/images/teacher-point.gif&amp;imgrefurl=http://users.wfu.edu/adkicr2/leadership.html&amp;h=332&amp;w=360&amp;sz=11&amp;hl=en&amp;start=13&amp;um=1&amp;tbnid=ebIju3mmBEYk6M:&amp;tbnh=112&amp;tbnw=121&amp;prev=/images%3Fq%3Dteacher%26svnum%3D10%26um%3D1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place.com/kids/hme/6_8/brightideas/graphics/bored.jpg&amp;imgrefurl=http://www.eduplace.com/kids/hme/6_8/brightideas/6-8/instructions.html&amp;h=296&amp;w=412&amp;sz=31&amp;hl=en&amp;start=2&amp;um=1&amp;tbnid=fWhRgeyUvB9_YM:&amp;tbnh=90&amp;tbnw=125&amp;prev=/images%3Fq%3Dbored%26svnum%3D10%26um%3D1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cognito-fancydress.co.uk/images/costumes/horse.jpg&amp;imgrefurl=http://www.incognito-fancydress.co.uk/fur.htm&amp;h=300&amp;w=250&amp;sz=17&amp;hl=en&amp;start=57&amp;um=1&amp;tbnid=DZR-scR40U1lEM:&amp;tbnh=116&amp;tbnw=97&amp;prev=/images%3Fq%3Dman%2Bhorse%26start%3D40%26ndsp%3D20%26svnum%3D10%26um%3D1%26hl%3Den%26safe%3Dactive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MMPH/263067~Halle-Berry-Posters.jpg&amp;imgrefurl=http://www.allposters.com/-sp/Halle-Berry-Posters_i1222387_.htm&amp;h=425&amp;w=340&amp;sz=32&amp;hl=en&amp;start=8&amp;um=1&amp;tbnid=MeoWInhi336D1M:&amp;tbnh=126&amp;tbnw=101&amp;prev=/images%3Fq%3Dhalle%2Bberry%26svnum%3D10%26um%3D1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h.com.au/ffximage/2005/06/30/schapellecorby_wideweb__430x316.jpg&amp;imgrefurl=http://www.smh.com.au/news/world/terrified-corby-wont-give-up-fight/2005/06/30/1119724702621.html&amp;h=316&amp;w=430&amp;sz=18&amp;hl=en&amp;start=33&amp;um=1&amp;tbnid=BMAnpT5Rcp5sqM:&amp;tbnh=93&amp;tbnw=126&amp;prev=/images%3Fq%3Dbehind%2Bbars%26start%3D20%26ndsp%3D20%26svnum%3D10%26um%3D1%26hl%3Den%26safe%3Dactive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elkevejen.dk/images/brain-thinking.gif&amp;imgrefurl=http://www.maelkevejen.dk/raymond-uk/brj.html&amp;h=180&amp;w=180&amp;sz=55&amp;hl=en&amp;start=15&amp;um=1&amp;tbnid=EWfYJvzTSCB-sM:&amp;tbnh=101&amp;tbnw=101&amp;prev=/images%3Fq%3Dthinking%2Bbrain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Level 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nit 6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art 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ag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ader who exploits popular prejudices false claims and promises in order to ga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show of angry concern conceals the self-serving tactics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mago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le-rouser ,fire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ree from deception or error, set right in ideas or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b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 of thinking that the party started 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eive ,enlighten, set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n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ess and dissatisfaction from lack of occupation or interest ,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elt a great de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nu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sitting at the conference for over fou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or , world-weariness, li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mal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tig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pers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zarr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mag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usqu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ab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jo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n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malou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, irregular, departing from the u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fficult to tell if the bell schedu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omal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what is normal at N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al, atypic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usual ,abe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281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p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maging or derogatory statement ; the act of slandering of def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twice befo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pers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s honesty, for he might be telling th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uendo ,calumny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zar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trange, unusual, atyp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nder what sort of life it would be to live in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zar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tesque, fantastic, outlan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us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, blunt , with no f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quest for a large loan for an indefinite length of time was met with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u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, tactless, g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racious ,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290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jol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ax , persuade through flattery or artifice ;to deceive with soothing thoughts or fals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smile ,a joke , and a second helping of pie, she wou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j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m into doing what s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ed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inveigle, soft-soap, sweet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ti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nish severely ; to criticize seve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tig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unruly children, they settled down to study quie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stise ,rebuke, censure ,upb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447920"/>
            <a:ext cx="4648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with ingenuity, invent; to bring about as the result of a scheme o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derful excuses ; but when she tries to offer them, her uneasiness gives he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up ,devise , concoct, fabr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47920"/>
            <a:ext cx="3962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7:57Z</dcterms:created>
  <dc:creator>NPSD</dc:creator>
  <dc:description/>
  <dc:language>en-US</dc:language>
  <cp:lastModifiedBy> </cp:lastModifiedBy>
  <dcterms:modified xsi:type="dcterms:W3CDTF">2008-11-26T16:29:50Z</dcterms:modified>
  <cp:revision>6</cp:revision>
  <dc:subject/>
  <dc:title>Anomalous </dc:title>
</cp:coreProperties>
</file>