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3E8-E8C8-41CD-92B4-BDA340F9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F9B-5401-48F0-B541-562DCFEE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48C-9E63-4F8D-B5E7-37E209BE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654-A51A-4692-A43A-40F63A07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EA28-F185-4E4E-90C2-9502F9EA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038B-AC5A-45B3-8971-4C6CDFB2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9EF4-556F-4448-BCBF-000CE01E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B459-50D8-4F01-8C18-E0FBD4F0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7757-845C-4496-B584-895A5EA6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2AB2-C0EF-4668-86D3-F37E7E76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110F-8AEE-4CAE-8A13-9198D030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F6D-B7EA-4F7D-BB98-4DC2EDF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25A2-1BB4-4005-981F-2AF67DB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6ADC-34A3-4125-B31C-9C4ADBF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2AAA-1BB7-4B8E-BBE1-EADD31D7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95C5-501F-42B5-A250-6AC1ABE7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000E-2FF1-4BE6-8008-D730CA26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986-3369-43B2-B109-90487A8B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648-515F-468F-8A8A-C3BB0AEC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D79-DF0A-41FA-B73D-923A4C29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718-071B-46BD-B4CD-7EC4E566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FEA-E4A5-4B92-A8A0-24FC9AE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F42-DF02-496D-AB68-E437E717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67F-1873-4A09-BA44-7F0CAC1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2421-F606-47EE-A71F-7D0800AEA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E330-72A1-45D7-930E-FA09440B0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Vocabulary Level F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Unit 7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Part B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648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careful and exact, attentive to fine points of etiquette or propr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precise, scrupulous, exacting, fussy, finic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erk was s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nctili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beying court rules that I had to be very careful to sign the papers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unctilio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ing fear of awe; illustrations, emi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formidable, fearsome, awesome, aug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 fierce ruler 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oubtabl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like all such rulers, not much l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oubt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fault with, scold, reb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ide, chastise, upbraid, re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prov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staff for not following ord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ro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10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ct of restoring someone or something to the rightful owner or to a former state or position; making good on a loss or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ompensation, reimbursement, redress, rest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tit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damage to the car but never fully regained the friendship of its own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tit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nd sturdy, brave, resolute, (v) a brave, strong person; a strong supporter; one who takes an uncompromising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sturdy, stout, intrepid, va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becam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basketball team as their statistic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frac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doub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tig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pr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llag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tit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at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lw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nctilio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ulne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lwa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man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lw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o to all of the citizens of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o attack, capable of being wounded or damaged; un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Defenseless, exposed, ungu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brave enough to have opposed the dictator’s rise now found themselves i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on when he gained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ulnerab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34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eaking of a law or obl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violation, transgression, breach, of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uncle paid a fine for h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r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local recycling regu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ra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5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milder or softer, to moderate in force or int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lessen, relieve, alleviate, dimi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d hop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r anger by offering an apolo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igat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fully, burping a baby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ti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s cry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089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b of goods by open force (as in war), plunder; (n) the act of looting;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Ravage, sack, loot, bo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anding officer warned his troops not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l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nquered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lla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522520" cy="302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0200" y="2362320"/>
            <a:ext cx="2762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lk a great deal in a foolish or aimless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onyms: chatter, prattle, blab, blabber, pal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dlessly about the past but say nothing useful about our present dilem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37:50Z</dcterms:created>
  <dc:creator>NPSD</dc:creator>
  <dc:description/>
  <dc:language>en-US</dc:language>
  <cp:lastModifiedBy>Nancy</cp:lastModifiedBy>
  <dcterms:modified xsi:type="dcterms:W3CDTF">2008-12-13T22:42:04Z</dcterms:modified>
  <cp:revision>12</cp:revision>
  <dc:subject/>
  <dc:title>Vocabulary Level F  Unit 7 Part B </dc:title>
</cp:coreProperties>
</file>