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FC0-37BB-4828-854B-3DC3E6BF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A6B-00DB-4A9A-9412-45F62084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285-BD82-40C0-B411-141A9C5B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5B9-6C7D-433B-B372-1B759B4F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75C8-C624-4108-9E2B-D3E8F259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73C2-BD9C-42DC-99A0-489DFEB3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A18D-D3CA-497B-8FD5-AB792AE1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261A-4A4D-452F-BD4E-9954B574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69F5-06FF-410C-A3E3-1BDAD59B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AE5C-84CD-4BD1-8A9B-ACBBB684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6700-3391-4036-B514-4F3C9567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E70-7D71-4155-AF8B-134A3577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29DC-DDF7-4ACB-936F-04405126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0E9C-6462-43D2-9702-A932D2F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FF7A-4003-4DC4-AC56-E3724A72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16C5-6766-4D7F-BD6B-C6404623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7C1D-5E0F-42B8-BF98-AF71C985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99B-04E2-46A3-82BC-D5508820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779-361D-4F8B-A7E5-1CDF48F2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BA4-2F4A-4443-A573-C2DABA51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4F5-AD79-402E-AA25-A3A77802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319-9922-4E28-A643-60AD9F04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B8E-A9B4-4612-8BE0-F360C99A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C47-EB24-4B86-8FBC-46D33969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1E71-91FC-4C9D-A4F8-3348AADA2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AE9C-E80E-46CA-A46D-A78BCC28C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Vocabulary Level F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Unit 7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Part B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648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careful and exact, attentive to fine points of etiquette or propri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precise, scrupulous, exacting, fussy, finic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erk was s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nctili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obeying court rules that I had to be very careful to sign the papers accu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ing fear of awe; illustrations, emi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formidable, fearsome, awesome, aug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fierce ruler 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oubtabl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like all such rulers, not much l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 fault with, scold, rebu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ide, chastise, upbraid, re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prov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staff for not following ord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10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ct of restoring someone or something to the rightful owner or to a former state or position; making good on a loss or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ompensation, reimbursement, redress, rest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tit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damage to the car but never fully regained the friendship of its own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nd sturdy, brave, resolute, (v) a brave, strong person; a strong supporter; one who takes an uncompromising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sturdy, stout, intrepid, va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becam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basketball team as their statistici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frac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doub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tig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r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ll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tit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lw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nctili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ulne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man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o to all of the citizens of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attack, capable of being wounded or damaged; un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Defenseless, exposed, ungu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brave enough to have opposed the dictator’s rise now found themselves 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on when he gained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341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eaking of a law or obl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violation, transgression, breach, of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uncle paid a fine for h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r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local recycling regul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5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milder or softer, to moderate in force or int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lessen, relieve, alleviate, dimin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d hop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anger by offering an apolog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fully, burping a bab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s cry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089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b of goods by open force (as in war), plunder; (n) the act of looting;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Ravage, sack, loot,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anding officer warned his troops no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ll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nquered 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522520" cy="302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00200" y="2362320"/>
            <a:ext cx="2762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alk a great deal in a foolish or aimless fash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atter, prattle, blab, blabber, pal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dlessly about the past but say nothing useful about our present dilem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37:50Z</dcterms:created>
  <dc:creator>NPSD</dc:creator>
  <dc:description/>
  <dc:language>en-US</dc:language>
  <cp:lastModifiedBy>Nancy</cp:lastModifiedBy>
  <dcterms:modified xsi:type="dcterms:W3CDTF">2008-12-13T22:42:04Z</dcterms:modified>
  <cp:revision>12</cp:revision>
  <dc:subject/>
  <dc:title>Vocabulary Level F  Unit 7 Part B </dc:title>
</cp:coreProperties>
</file>