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459-414A-4857-81FA-EF2FF999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ABC-92D7-454F-A252-FFC3AD34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885-CDE1-43E5-91AA-12FC4636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51D-306B-4E18-A2DD-F7D670F2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A6E8-921A-4C78-AA53-154AE85B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D8DA-9390-44E9-BAB9-9E4CCFF9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CAB6-4DC9-48F9-AE16-735798BE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6599-F6A5-42C1-9EBE-186B3965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8C51-1D10-48B3-B7D5-25B91F52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8C04-ECAD-4B81-BD79-C280067F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26F9-CD19-440D-941E-A040FAFE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667-AD1A-4C49-A32C-DF47CA80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A427-C84A-4EDF-B565-28A4CBEB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0496-A19E-4D2B-8B0A-009EC513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767B-1E59-4881-90B3-CC2AE496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3728-F002-4D21-B640-E4710474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D6BF-2302-4B74-B293-5568CD1D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C2F-FDDD-482B-895E-8F9643C8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E73-A02A-416F-A90E-0A748DC3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500-5B6E-42B4-8148-E653507A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CDF-9E75-45F2-9A61-59132F5A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D32-77C0-476E-8A70-80C4E73E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A9C7-A2EC-4410-8BB5-86992B70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8E2-B170-4F9A-9C23-ABAEC257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AFD6-6D5F-404D-B4BB-B154978873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BB5E-402C-4B94-BD39-88DDD70EFF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ocabulary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evel F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nit 7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art 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rom hunger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dav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ppearance, the rescued captives were carried from the pla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221616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ncoc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pare by combining ingredients, make up (as a d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vise, invent, fabr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6680" y="685800"/>
            <a:ext cx="675324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COC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579096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o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avory stew with fresh herbs and vegetables from the gard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6827" r="0" b="0"/>
          <a:stretch/>
        </p:blipFill>
        <p:spPr>
          <a:xfrm>
            <a:off x="4191120" y="3276720"/>
            <a:ext cx="305748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ras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rse, unfeeling; stu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rude, vulgar, tast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76520" y="533520"/>
            <a:ext cx="543384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A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038480" y="1905120"/>
            <a:ext cx="3403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eel that the positions of our representative show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fference to our problem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ba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wer in character, quality, o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grade, adult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use to deteri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heapen, corrupt, demean, deprec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28800" y="609480"/>
            <a:ext cx="560088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BAS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548640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time a new rule is introduced in a popular sport, there are fans who say it 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a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t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efic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ec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davero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onc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oc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ndi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s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onsequent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secrat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mit sacrilege upon, treat irrev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taminate, pol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680" y="609480"/>
            <a:ext cx="65674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DESECR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19520" y="2168640"/>
            <a:ext cx="489420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continues for the vandals wh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c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emete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518148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isconcer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turb the composu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52480" y="762120"/>
            <a:ext cx="624852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ISCONCER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933640"/>
            <a:ext cx="1862280" cy="26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d hop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conc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with an unexpected question, but he was well prepar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7800" y="3733920"/>
            <a:ext cx="266688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grandiose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 in an impressive or statel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d by pompous affectation or grandeur, absurdly exagger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95280" y="685800"/>
            <a:ext cx="60962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DIO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w many cities, I wonder, does an ambitious engineer dream up suc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ndi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ig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05320" y="3809880"/>
            <a:ext cx="445752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consequentia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fling, un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trivial, p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38480" y="3200400"/>
            <a:ext cx="36291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uste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or stern in mann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dornment or luxury, simple, pla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sh or sour in flav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 free to igno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onsequ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ails, provided that you are sure that they are unimporta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2922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uste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523520"/>
            <a:ext cx="6553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othing and conduct of the Puritans expressed their belie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441936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enefic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ing acts of kindness or ch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ring benefits, doing g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62120" y="3049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NEFICE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96576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m I learned that pure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c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s can require as much hard work as a nine-to-five job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275256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daverou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, gaunt, resembling a cor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orpselike, wasted, haggard, emaciated, ghast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490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990720" y="457200"/>
            <a:ext cx="723888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DAVEROU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4:50:39Z</dcterms:created>
  <dc:creator>NPSD</dc:creator>
  <dc:description/>
  <dc:language>en-US</dc:language>
  <cp:lastModifiedBy>NPSD</cp:lastModifiedBy>
  <dcterms:modified xsi:type="dcterms:W3CDTF">2009-07-26T23:09:37Z</dcterms:modified>
  <cp:revision>12</cp:revision>
  <dc:subject/>
  <dc:title>Vocabulary  Level F Unit 7 Part A </dc:title>
</cp:coreProperties>
</file>