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789-269B-4F0F-90AA-F88E4E7C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DA9-7E45-489A-AB7E-ACE97C91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89C-1FFF-404E-9657-E2EB24DB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3FC-7BC2-4350-86F5-883E2A08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5A64-CD25-4F58-84A5-5F0F7F7E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B109-B76E-4640-B607-66B26BDD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C540-A8C0-4B43-BB71-FF9DEDBB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7B6D-9B9E-4077-BD62-759C458A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72FE-3BCE-4ED1-91E0-7C6ED258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6D88-2876-4584-9EE1-C0BBE148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1E59-B15E-4C6C-91B8-7A98E346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F3A-6748-4A64-A65B-8D5DB07B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934A-E342-4B5D-B92A-3F75402F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688A-BE61-4FFC-8C05-0733F412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EA78-F510-437C-9ACB-885574EC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FB7E-6A9C-4992-BA4B-067875FF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DF2C-2968-4253-B0CC-D8D1F7EA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A5D-4DC0-4AAD-ABB2-0349B683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02E-E07F-475B-81B1-64EF71EC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D58-ED50-4168-9E79-05C831A8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E40-4B16-4325-B234-E88D94CC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C8F-5DAF-4527-A3F9-46FA4EBB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F4D-98ED-4BC7-B0E4-A51C41E8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4D2-99CE-465A-8DE7-E3930639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5B48-447D-46C2-B243-E77105E5B1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FBEA-3087-4594-9C6A-A211C7DF0F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ocabulary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vel F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it 7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art 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rom hunger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dav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ppearance, the rescued captives were carried from the pla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21616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ncoc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by combining ingredients, make up (as a d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ise, invent, fabr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680" y="685800"/>
            <a:ext cx="675324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COC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57909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o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avory stew with fresh herbs and vegetables from the gar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6827" r="0" b="0"/>
          <a:stretch/>
        </p:blipFill>
        <p:spPr>
          <a:xfrm>
            <a:off x="4191120" y="3276720"/>
            <a:ext cx="305748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ra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rse, unfeeling; st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rude, vulgar, tast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76520" y="533520"/>
            <a:ext cx="543384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A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038480" y="1905120"/>
            <a:ext cx="3403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eel that the positions of our representative show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fference to our proble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wer in character, quality, o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grade, adult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use to deteri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heapen, corrupt, demean, deprec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09480"/>
            <a:ext cx="560088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BAS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548640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time a new rule is introduced in a popular sport, there are fans who say it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t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nefic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davero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o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ndi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onsequent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secrat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mit sacrilege upon, treat irrev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taminate, pol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609480"/>
            <a:ext cx="65674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DESECR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2168640"/>
            <a:ext cx="489420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continues for the vandals wh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c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emete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518148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concer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turb the composur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52480" y="762120"/>
            <a:ext cx="624852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ISCONCE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2933640"/>
            <a:ext cx="186228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hop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conc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with an unexpected question, but he was well prepar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266688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grandiose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 in an impressive or state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by pompous affectation or grandeur, absurdly exagger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95280" y="685800"/>
            <a:ext cx="60962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DIO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w many cities, I wonder, does an ambitious engineer dream up suc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ndi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ig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445752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consequenti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fling, un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trivial, p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36291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or stern in mann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dornment or luxury, simple, plai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sh or sour in flav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free to igno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onsequ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ails, provided that you are sure that they are unimporta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2922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uste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52352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thing and conduct of the Puritans expressed their belie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441936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enefic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ing acts of kindness or ch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ring benefits, doing g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3049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NEFIC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96576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m I learned that pure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s can require as much hard work as a nine-to-five jo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275256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adaverou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gaunt, resembling a cor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:  corpselike, wasted, haggard, emaciated, ghas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490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90720" y="457200"/>
            <a:ext cx="723888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DAVEROU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4:50:39Z</dcterms:created>
  <dc:creator>NPSD</dc:creator>
  <dc:description/>
  <dc:language>en-US</dc:language>
  <cp:lastModifiedBy>NPSD</cp:lastModifiedBy>
  <dcterms:modified xsi:type="dcterms:W3CDTF">2009-07-26T23:09:37Z</dcterms:modified>
  <cp:revision>12</cp:revision>
  <dc:subject/>
  <dc:title>Vocabulary  Level F Unit 7 Part A </dc:title>
</cp:coreProperties>
</file>