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DF9-E53A-49D0-B5FA-46599DB0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A6D-3BD9-4446-BD00-594E07ED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AB1-6F5D-4CE1-BECD-D89BBFDE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ADD-CB42-403B-A158-2D55F972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1CA1-1870-4986-A189-05AEA8E4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A661-4ABA-4D12-8CF1-B8E7A8D7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F76E-5AD7-4BDB-943B-80F9159F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445B-A0BB-4A0B-806E-9BE7CB7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AF7B-9847-44B9-AB24-C98B5268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44D0-FC42-4A97-B630-E54CE743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D1F7-61E8-40EB-BDCC-AF9F56F1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3F2-391A-4DB8-9DB5-CD0722E0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B112-DB43-4BB5-853F-2663196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D0B8-F20E-4112-A5AC-F96C702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3D8E-4F6B-4EE6-8CF2-B97CC24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CD8C-79DE-41C5-89C2-3B8766F8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33C7-3F4F-4DF8-9770-9ACCBEDD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F79-A452-491E-8D9A-BC083975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907-99EE-4FCF-9C08-6F6263A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3AD-A2A1-4395-ABB6-4971D4D0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F46-CADF-4183-B88C-02903363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289-A409-4740-8E7C-367AE64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01E-729B-4831-BD9A-E3D46E31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D20-E4F6-4B44-B434-E143679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D11F-FA75-4AA4-A4CF-9D3535BA9C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1B8E-F473-48B0-9606-07B5C072FA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ocabulary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vel F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 7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art 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rom hunger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dav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ppearance, the rescued captives were carried from the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2161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co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by combining ingredients, make up (as a d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ise, invent, fab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680" y="685800"/>
            <a:ext cx="675324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OC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57909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o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avory stew with fresh herbs and vegetables from the gar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6827" r="0" b="0"/>
          <a:stretch/>
        </p:blipFill>
        <p:spPr>
          <a:xfrm>
            <a:off x="4191120" y="3276720"/>
            <a:ext cx="305748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a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rse, unfeeling; st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rude, vulgar, tas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76520" y="533520"/>
            <a:ext cx="543384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A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038480" y="1905120"/>
            <a:ext cx="3403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eel that the positions of our representative show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fference to our proble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wer in character, quality, o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grade, adult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use to deteri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heapen, corrupt, demean, deprec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09480"/>
            <a:ext cx="560088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BAS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54864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time a new rule is introduced in a popular sport, there are fans who say it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t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c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davero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o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ndi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onsequent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mit sacrilege upon, treat irrev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taminate, pol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609480"/>
            <a:ext cx="65674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DESEC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168640"/>
            <a:ext cx="48942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continues for the vandals wh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c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emete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51814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turb the composu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52480" y="762120"/>
            <a:ext cx="624852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SCONCE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933640"/>
            <a:ext cx="18622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hop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nc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with an unexpected question, but he was well prepar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266688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ndios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 in an impressive or state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by pompous affectation or grandeur, absurdly exagger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95280" y="685800"/>
            <a:ext cx="60962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DI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cities, I wonder, does an ambitious engineer dream up suc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ndi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ig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44575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consequenti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fling, un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trivial, p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36291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or stern in mann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dornment or luxury, simple, pl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 or sour in flav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free to igno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onsequ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ails, provided that you are sure that they are unimporta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2922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thing and conduct of the Puritans expressed their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44193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nefic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ing acts of kindness or ch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ring benefits, doing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3049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NEFIC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96576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m I learned that pu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can require as much hard work as a nine-to-five jo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275256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daver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gaunt, resembling a cor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orpselike, wasted, haggard, emaciated, ghas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490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90720" y="457200"/>
            <a:ext cx="72388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DAVERO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50:39Z</dcterms:created>
  <dc:creator>NPSD</dc:creator>
  <dc:description/>
  <dc:language>en-US</dc:language>
  <cp:lastModifiedBy>NPSD</cp:lastModifiedBy>
  <dcterms:modified xsi:type="dcterms:W3CDTF">2009-07-26T23:09:37Z</dcterms:modified>
  <cp:revision>12</cp:revision>
  <dc:subject/>
  <dc:title>Vocabulary  Level F Unit 7 Part A </dc:title>
</cp:coreProperties>
</file>