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E55-BA9B-4D66-AA31-EBB650AC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78E-B697-4C0B-8C69-1FE63829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494-06F7-40E0-A7AD-8C573AA9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83E-74DB-4B9B-A455-17C8A8E3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C10A-CC44-4485-8A11-628DAB0E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0D0B-A9CD-4956-A0AA-1B39CB0D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EA08-15B7-4192-83B6-9FD865AC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0719-DA71-479C-AD25-4E850563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83A6-73AE-46D6-B74B-B00CF76F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81C6-9915-4C1C-8DFC-48AD87FD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91C6-30E4-4053-8DB3-C2DE8D55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5E8-642C-4F8A-A93D-3AAD7CDF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447E-E518-4CD2-9275-300DC43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F0DE-AC7F-4E83-83E3-263BC093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4A97-1ACA-4123-BB2B-66E9BFC2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A799-C644-4D4D-A391-3DB223A7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69AC-727E-45D5-B1E9-BEAED547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085-F3AE-4EA1-8B9A-C593DA16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A6F-E1E6-4796-BC30-1EF522AF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32D-60F9-4529-B2F2-16677ACC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7CA-5EAA-477B-B5CE-D4E7D366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9A6-C716-4100-B4A2-5651AB1F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E65-6A8D-4A63-AF0E-9410A6F2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884-D08D-4E92-93A5-4DA10834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712C-FFF8-41E4-AD1D-C32674BF08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78C0-8FDF-4A0D-9798-009DD842CB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ocabulary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vel F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it 7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art 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rom hunger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dav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ppearance, the rescued captives were carried from the pla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21616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coc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by combining ingredients, make up (as a d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ise, invent, fabr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680" y="685800"/>
            <a:ext cx="675324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COC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57909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o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avory stew with fresh herbs and vegetables from the gar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6827" r="0" b="0"/>
          <a:stretch/>
        </p:blipFill>
        <p:spPr>
          <a:xfrm>
            <a:off x="4191120" y="3276720"/>
            <a:ext cx="305748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ra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rse, unfeeling; st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rude, vulgar, tast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76520" y="533520"/>
            <a:ext cx="543384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A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038480" y="1905120"/>
            <a:ext cx="3403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eel that the positions of our representative show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fference to our proble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wer in character, quality, o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grade, adult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use to deteri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heapen, corrupt, demean, deprec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09480"/>
            <a:ext cx="560088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BAS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548640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time a new rule is introduced in a popular sport, there are fans who say it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t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ic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davero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o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ndi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onsequent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mit sacrilege upon, treat irrev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taminate, pol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609480"/>
            <a:ext cx="65674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DESECR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2168640"/>
            <a:ext cx="489420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continues for the vandals wh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c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emete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51814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turb the composu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52480" y="762120"/>
            <a:ext cx="624852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SCONCE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933640"/>
            <a:ext cx="186228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hop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conc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with an unexpected question, but he was well prepar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266688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grandiose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 in an impressive or state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by pompous affectation or grandeur, absurdly exagger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95280" y="685800"/>
            <a:ext cx="60962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DI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w many cities, I wonder, does an ambitious engineer dream up suc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ndi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ig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445752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consequenti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fling, un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trivial, p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36291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or stern in mann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dornment or luxury, simple, pla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sh or sour in flav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free to igno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onsequ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ails, provided that you are sure that they are unimporta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2922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thing and conduct of the Puritans expressed their bel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44193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enefic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ing acts of kindness or ch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ring benefits, doing g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3049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NEFIC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96576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m I learned that pur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s can require as much hard work as a nine-to-five jo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275256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daver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gaunt, resembling a cor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orpselike, wasted, haggard, emaciated, ghas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490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90720" y="457200"/>
            <a:ext cx="723888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DAVEROU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4:50:39Z</dcterms:created>
  <dc:creator>NPSD</dc:creator>
  <dc:description/>
  <dc:language>en-US</dc:language>
  <cp:lastModifiedBy>NPSD</cp:lastModifiedBy>
  <dcterms:modified xsi:type="dcterms:W3CDTF">2009-07-26T23:09:37Z</dcterms:modified>
  <cp:revision>12</cp:revision>
  <dc:subject/>
  <dc:title>Vocabulary  Level F Unit 7 Part A </dc:title>
</cp:coreProperties>
</file>