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7740-36E7-4B22-98CB-26FD9155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6342-E19D-4F1C-A11A-E52C8A13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35B9-7254-4B90-85FF-B5ECAF93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DE59-4863-4813-9E4A-9A5A2001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E7F-64A4-408B-B169-7D70AAEE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841C-37CD-47D3-8786-F5CC3FF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677-F62B-4E1F-88E5-A0D0547C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1A1-D454-40A7-ADB7-EFB651C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62CA-4E43-4467-941D-719072E2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9B6-BB67-49B7-8853-E0E5B31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91A-18EA-4A4B-B4B2-1A8743E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F2D4-23F1-4E30-87C2-E5D62A3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8F31-E07F-49C8-B357-91F3D01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B498-E6E2-4B91-80EB-5CB5A80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E11-3B68-49EF-A53E-74959EF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1C8-47CF-468D-A127-3914C5B7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6F0A-C42C-4EFB-8F77-21FB51EE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B0CC-10E1-4FEF-8496-F004697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DCB86-EEB8-4F62-8587-EB70B55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67A5-ECE7-429D-9B98-670CACC3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CDD1-28C0-4D8A-B36E-86BEF71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46DF-E9C4-46FE-B8F9-15816FC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1BE9-97D7-40BE-A014-6108EBC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9DA8-B700-4C53-BCEE-7497AF68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2EC-F307-4E24-BFC2-A3AF425BEE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F70D-271F-4C29-B08E-E13054E753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Vocabulary Level F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Unit 6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B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Washington and his contemporaries w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s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my was confident that they could crush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sur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galomani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elusion marked by a feeling of power, wealth, talent, etc., far in exces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delusions of grand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fame and admiration can make people feel unworthy-or it can bring on feeling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galoma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289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necur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position requiring little or no work; an easy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“no show” job, cushy job, “plu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e of Vice President of the United States was once considered little more than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nec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2743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rreptit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althy, secret, intended to escape observation; made or accomplished by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furtive, covert, clandestine, conc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ie heroine blushed when she notic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ances of her admir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urgents be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rreptitious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order to hide their ident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44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gres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go beyond a limit or boundary; to sin, violate 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overstep, exceed, trespass, er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nitent citizens promised to never ag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aws of the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mut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hange from one nature, substance, or form to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transform, convert, translate, metamorph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tt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n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inou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surreptit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utab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g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urg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galomani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cario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m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trust into friendship along that war-torn border will take more than wise politicians and just la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43640" y="221472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icari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, suffered, or otherwise experienced by one person in place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surrogate, substitute, imagined, second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arch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cari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citement, we watched movies of action and adve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Indiana Jones reviews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tter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hain or shackle placed on the feet (often used in plural) anything that confines or restrains; (v.) to chain or shackle; to render helpless or impo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bond, restraint; (v.) bind, ham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ld phrase “chain gang” refers to prisoners made to work, each joined to the next by link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aid that good inventors do no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et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selves with conventional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4987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einous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ry wicked, offensive, hat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evil, odious, abominable, out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wn so peaceful, quiet, and law-abiding was bound to be horrified by s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in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0560" y="838080"/>
            <a:ext cx="394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utable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 subject to change,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unchangeable, unalterable, fixed, in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entenc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labored to discover a se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u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s of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Scientists"/>
          <p:cNvPicPr/>
          <p:nvPr/>
        </p:nvPicPr>
        <p:blipFill>
          <a:blip r:embed="rId1"/>
          <a:stretch/>
        </p:blipFill>
        <p:spPr>
          <a:xfrm>
            <a:off x="5029200" y="1905120"/>
            <a:ext cx="396252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urgent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who rebels or rises against authority; (adj.) rising in revolt, refusing to accept authority; surging or rushing in or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: revolutionary, rebellious, mut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03:18:07Z</dcterms:created>
  <dc:creator>Byron</dc:creator>
  <dc:description/>
  <dc:language>en-US</dc:language>
  <cp:lastModifiedBy> </cp:lastModifiedBy>
  <dcterms:modified xsi:type="dcterms:W3CDTF">2008-11-26T16:52:56Z</dcterms:modified>
  <cp:revision>8</cp:revision>
  <dc:subject/>
  <dc:title>Vocabulary Level F Unit 6  Part B Byron Joell</dc:title>
</cp:coreProperties>
</file>