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7A9D-D2F6-42C2-8E3A-F2227138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6AD0-0268-41FB-B016-37F9E22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6CC1-3DD6-433F-A44E-5284904D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158F-A543-46A6-B912-D0846DBD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FFE5-2D0F-47FA-BE64-0F6C6ADB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C25-91BA-4657-B1F6-07B98D6E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0261-54EB-4E69-935E-9380B004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DD2D-161E-4771-9DCA-1F118EB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3015-3405-4CE0-88EB-F885099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476C-8450-45BE-BF89-31584A0D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B4C-B72A-4144-B715-3ACB00A3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E7D2-19AB-47AE-8E15-6BD6424A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3052-69DE-4738-B68B-0886D41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411E-7B89-43DC-B7F0-B6A5379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ED6B-B7EA-4C9D-9B74-5902B89E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8E0-0D64-4DCA-9A33-3BF8CFA4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9089-17D9-491B-B6F0-E35E014E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EB92-EB5F-418B-8881-170A7A9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E07F-F0D3-476E-86D0-E34EBB6E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D44B-A486-42A5-ACFA-89151B44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249F-8CBA-4979-AB66-1ADC1A09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8DFC-92D6-4171-B0B7-10C8F75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4AB9-4155-448C-8EB9-E64A2EA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A751-8D59-48EA-8A37-A040DCE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378-AB02-4F68-B65A-6583A224ED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A9D-812F-48E5-84C3-40EF556AA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Vocabulary Level F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Unit 6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B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Washington and his contemporaries w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s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y was confident that they could crus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galoman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usion marked by a feeling of power, wealth, talent, etc., far in exces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delusions of grand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fame and admiration can make people feel unworthy-or it can bring on feeling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galom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289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necur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osition requiring little or no work; an eas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“no show” job, cushy job, “plu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e of Vice President of the United States was once considered little more than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e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43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rreptit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althy, secret, intended to escape observation; made or accomplished by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furtive, covert, clandestine, conc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ie heroine blushed when she notic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ances of her admir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gents be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order to hide their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44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gres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go beyond a limit or boundary; to sin, violate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verstep, exceed, trespass,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itent citizens promised to never ag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ws of the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ut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from one nature, substance, or form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ransform, convert, translate, metamorp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tt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inou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surreptit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utab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urg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galoman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ario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trust into friendship along that war-torn border will take more than wise politicians and just la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43640" y="221472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car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, suffered, or otherwise experienced by one person in place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urrogate, substitute, imagined, second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arch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car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citement, we watched movies of action and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Indiana Jones reviews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tter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ain or shackle placed on the feet (often used in plural) anything that confines or restrains; (v.) to chain or shackle; to render helpless or impo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nd, restraint; (v.) bind, ham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ld phrase “chain gang” refers to prisoners made to work, each joined to the next by link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aid that good inventors do no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selves with conventional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98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in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ry wicked, offensive, hat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evil, odious, abominable, out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wn so peaceful, quiet, and law-abiding was bound to be horrified by s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n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0560" y="838080"/>
            <a:ext cx="394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utabl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subject to change,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unchangeable, unalterable, fixed, in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labored to discover a se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u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s of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Scientists"/>
          <p:cNvPicPr/>
          <p:nvPr/>
        </p:nvPicPr>
        <p:blipFill>
          <a:blip r:embed="rId1"/>
          <a:stretch/>
        </p:blipFill>
        <p:spPr>
          <a:xfrm>
            <a:off x="5029200" y="1905120"/>
            <a:ext cx="3962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urgent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who rebels or rises against authority; (adj.) rising in revolt, refusing to accept authority; surging or rushing in o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volutionary, rebellious, mut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3:18:07Z</dcterms:created>
  <dc:creator>Byron</dc:creator>
  <dc:description/>
  <dc:language>en-US</dc:language>
  <cp:lastModifiedBy> </cp:lastModifiedBy>
  <dcterms:modified xsi:type="dcterms:W3CDTF">2008-11-26T16:52:56Z</dcterms:modified>
  <cp:revision>8</cp:revision>
  <dc:subject/>
  <dc:title>Vocabulary Level F Unit 6  Part B Byron Joell</dc:title>
</cp:coreProperties>
</file>