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3883E-1786-4A6A-9FAF-2BB21E89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0F616-8E22-4097-AA62-A03091D5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EEC1-1506-4EFC-B85C-D1C95264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B5B9E-C478-49EF-8E7E-5AE7AED9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37FD-7E31-45EB-8C2C-2843066B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D74E-D742-4604-89D2-D84608E7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4675-FBCD-4AB8-A011-32DDE8FB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141D-9195-4B01-951D-46F618EC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47A3-B6C8-4417-B93D-CFC7B193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0FD3-6579-44AD-9C1C-52003988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1FF1-DA6C-4AC7-B55F-10A2D905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518B4-A59A-4E1A-A086-8B931B50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0EE2-AD67-48CF-8CA8-F6EEFE47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BEFD-BB07-4381-A163-1B5C5A81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F6E7-DEC5-4CAD-9673-1AF08FDE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47E2-9E13-47D7-BE3D-0149B825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3CE7-32D0-4D63-A3A2-D38625C9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C3EAA-4227-43B4-8626-8D3B7A66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D2B3C-207F-4BE0-84F1-A63714B2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69EBE-FEC5-4FA7-8E07-450BAB88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B353D-7D85-4354-AAB3-9C295BD5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6862B-DF5A-4F00-8B6B-75705618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C8EF8-A6FF-4D46-9B73-F9E7DB70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7BDD1-23E1-45DD-9E37-41877AE1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27FD-5F13-41E7-9741-D87D87D271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B03B-7431-4019-A0EC-E25CED0D3A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Vocabulary Level F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Unit 6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Part B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rge Washington and his contemporaries w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sur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gainst Brit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my was confident that they could crush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sur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galomania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delusion marked by a feeling of power, wealth, talent, etc., far in excess of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delusions of grande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fame and admiration can make people feel unworthy-or it can bring on feeling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galoma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42892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necure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position requiring little or no work; an easy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“no show” job, cushy job, “plum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ffice of Vice President of the United States was once considered little more than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inec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27432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rreptitiou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ealthy, secret, intended to escape observation; made or accomplished by fra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furtive, covert, clandestine, concea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vie heroine blushed when she noticed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rreptiti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ances of her admir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surgents beha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rreptitious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order to hide their ident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6449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ransgres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go beyond a limit or boundary; to sin, violate a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overstep, exceed, trespass, er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nitent citizens promised to never aga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nsg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laws of the 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ransmute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change from one nature, substance, or form to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transform, convert, translate, metamorph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ett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nec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inou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surreptit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mutabl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g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surg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mu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galomani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cario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nsmu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strust into friendship along that war-torn border will take more than wise politicians and just la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43640" y="2214720"/>
            <a:ext cx="28573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icariou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formed, suffered, or otherwise experienced by one person in place of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surrogate, substitute, imagined, second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earch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icari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citement, we watched movies of action and adven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Indiana Jones reviews"/>
          <p:cNvPicPr/>
          <p:nvPr/>
        </p:nvPicPr>
        <p:blipFill>
          <a:blip r:embed="rId1"/>
          <a:stretch/>
        </p:blipFill>
        <p:spPr>
          <a:xfrm>
            <a:off x="4876920" y="29718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tter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hain or shackle placed on the feet (often used in plural) anything that confines or restrains; (v.) to chain or shackle; to render helpless or impo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bond, restraint; (v.) bind, ham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ld phrase “chain gang” refers to prisoners made to work, each joined to the next by link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et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said that good inventors do no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et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mselves with conventional thin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49876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einou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ery wicked, offensive, hate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evil, odious, abominable, outrag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own so peaceful, quiet, and law-abiding was bound to be horrified by s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ein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cr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200560" y="838080"/>
            <a:ext cx="39434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mutable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 subject to change, cons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unchangeable, unalterable, fixed, in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labored to discover a set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mu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s of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Scientists"/>
          <p:cNvPicPr/>
          <p:nvPr/>
        </p:nvPicPr>
        <p:blipFill>
          <a:blip r:embed="rId1"/>
          <a:stretch/>
        </p:blipFill>
        <p:spPr>
          <a:xfrm>
            <a:off x="5029200" y="1905120"/>
            <a:ext cx="396252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urgent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e who rebels or rises against authority; (adj.) rising in revolt, refusing to accept authority; surging or rushing in or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revolutionary, rebellious, mutin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03:18:07Z</dcterms:created>
  <dc:creator>Byron</dc:creator>
  <dc:description/>
  <dc:language>en-US</dc:language>
  <cp:lastModifiedBy> </cp:lastModifiedBy>
  <dcterms:modified xsi:type="dcterms:W3CDTF">2008-11-26T16:52:56Z</dcterms:modified>
  <cp:revision>8</cp:revision>
  <dc:subject/>
  <dc:title>Vocabulary Level F Unit 6  Part B Byron Joell</dc:title>
</cp:coreProperties>
</file>