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28E-F697-4BF8-8C9C-57F4BC9F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548-6921-4E8F-BD2F-4E2800C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D72-DED2-4A4E-A298-BA4A6E60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A89-CD3A-4EC5-B819-4668A07D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EAA-A5EE-4DC8-A5C1-92A0810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2E6-A780-4655-B404-F0296095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AEB-1BE0-411F-84F1-86093FA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60B-6178-4481-A481-1A7E31DC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2B5-DA00-44CD-8696-2B60088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04E-7D3A-4D1F-8A40-8EC67BF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D70-F93F-43E2-A23B-3D42F26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660-A937-4E64-B4C0-47737ED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CD25-0FE5-4E72-8D2B-313B3556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rnerreprise.com/artist_newsletters/mychemicalromance/HEARSE.jpg&amp;imgrefurl=http://www.quizilla.com/users/these4walls/quizzes/The%2520%255BCurse%255D%2520of%2520the%2520Hearse/&amp;h=422&amp;w=798&amp;sz=90&amp;hl=en&amp;start=6&amp;tbnid=nAjmrSDr1vCPvM:&amp;tbnh=76&amp;tbnw=143&amp;prev=/images%3Fq%3Dhearse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omp.org/imgs/ewebeditor/summer_2003_007a.jpg&amp;imgrefurl=http://www.chomp.org/news/pulse/2003/sumfall03/school.aspx&amp;h=305&amp;w=250&amp;sz=18&amp;hl=en&amp;start=1&amp;tbnid=xxr3nyAPS4xYBM:&amp;tbnh=116&amp;tbnw=95&amp;prev=/images%3Fq%3Dkids%2Bbored%2Bin%2Bclass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vel F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it 5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8600"/>
            <a:ext cx="6858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athan Swift used wit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British government got its cruel treatment of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courg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an old punishment we no longer u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9621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ulchral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ereal,typical of the t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380880"/>
            <a:ext cx="6400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ister announced in a severe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ne of voice that we were out of coo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arse definitely look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pulchr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267080"/>
            <a:ext cx="42670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porific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ing to cause sleep,relating to sleepiness or letha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0492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claimed that the musical, despite its energy,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that he had slept through the entire second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124080"/>
            <a:ext cx="2771640" cy="338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tlace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emely strict in regard to moral standards and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80880"/>
            <a:ext cx="7619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ers may find people overse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some ways but surprisingly free in ot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believe those in religion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itlac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ut that is not alway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1178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ient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ing only a shor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09480"/>
            <a:ext cx="70866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bad mood w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by the time he’d finished his breakfast, he was smi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auty of nature is 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ns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2212920" cy="27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wield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easily carried,handled,or managed because of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5-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porif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itla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ath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urg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pulchra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p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45720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the supplies up the mountain clearly proved to be 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unwield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51460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pid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ll uninteresting,tir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80880"/>
            <a:ext cx="65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critics called the movie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vapi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thought the performers were very compe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72420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219320"/>
            <a:ext cx="6629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ecept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rule of conduct or 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religions follow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t it is important to treat others as you,yourself, would like to be tre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utary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cial,helpful:healthful,whol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380880"/>
            <a:ext cx="7239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te puppy had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ffect on her heal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uits and vegetables have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alut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n health, to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thing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terly severe, withering:causing great h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38088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a carefully reasoned discussion does more to change peoples minds than 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th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79132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urge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whip,punish severely; source of severe critic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20:32Z</dcterms:created>
  <dc:creator>laxgurl224</dc:creator>
  <dc:description/>
  <dc:language>en-US</dc:language>
  <cp:lastModifiedBy>Nancy</cp:lastModifiedBy>
  <dcterms:modified xsi:type="dcterms:W3CDTF">2009-01-01T19:29:09Z</dcterms:modified>
  <cp:revision>6</cp:revision>
  <dc:subject/>
  <dc:title>PowerPoint Presentation</dc:title>
</cp:coreProperties>
</file>