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545BA-3C87-4061-818A-832BB02E7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A1DEA-4E15-4D62-8D6E-61B427D83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A2EBC-6487-493C-8B00-F28012550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75302-4DDF-49F0-9ECC-1147F1BE0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AE844-0876-4130-BE9E-0CD95C38F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AD6EB-C611-4983-B7FC-CDF5EF2AC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1DBC1-1078-4561-9F94-AB3440166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5F502-E3BF-4211-8BF4-F864BF6E8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E90BA-B37D-469B-8CDD-82815FF39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F6D5A-5DD8-4902-91DE-57A712E62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2CCF0-4080-4436-BCA7-4019942BB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9216D-C376-485B-B83A-217F3FA00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2D2E1-4DD3-4137-8258-E69641A309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arnerreprise.com/artist_newsletters/mychemicalromance/HEARSE.jpg&amp;imgrefurl=http://www.quizilla.com/users/these4walls/quizzes/The%2520%255BCurse%255D%2520of%2520the%2520Hearse/&amp;h=422&amp;w=798&amp;sz=90&amp;hl=en&amp;start=6&amp;tbnid=nAjmrSDr1vCPvM:&amp;tbnh=76&amp;tbnw=143&amp;prev=/images%3Fq%3Dhearse%26gbv%3D2%26svnum%3D10%26hl%3Den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chomp.org/imgs/ewebeditor/summer_2003_007a.jpg&amp;imgrefurl=http://www.chomp.org/news/pulse/2003/sumfall03/school.aspx&amp;h=305&amp;w=250&amp;sz=18&amp;hl=en&amp;start=1&amp;tbnid=xxr3nyAPS4xYBM:&amp;tbnh=116&amp;tbnw=95&amp;prev=/images%3Fq%3Dkids%2Bbored%2Bin%2Bclass%26gbv%3D2%26svnum%3D10%26hl%3Den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Vocabulary </a:t>
            </a: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Level F</a:t>
            </a: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Unit 5 </a:t>
            </a: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Part B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80880" y="228600"/>
            <a:ext cx="6858000" cy="49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Jonathan Swift used wit to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scourg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the British government got its cruel treatment of Ireland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Scourging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is an old punishment we no longer use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648320" y="3733920"/>
            <a:ext cx="3962160" cy="27273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pulchral-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unereal,typical of the tom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295280" y="380880"/>
            <a:ext cx="6400800" cy="44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y sister announced in a severe and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sepulchral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tone of voice that we were out of cookie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hearse definitely looks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sepulchral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191120" y="4267080"/>
            <a:ext cx="4267080" cy="22669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porific-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nding to cause sleep,relating to sleepiness or letharg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066680" y="304920"/>
            <a:ext cx="61722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 claimed that the musical, despite its energy,was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soporific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and that he had slept through the entire second ac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19920" y="3124080"/>
            <a:ext cx="2771640" cy="33829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aitlaced-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remely strict in regard to moral standards and condu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533520" y="380880"/>
            <a:ext cx="7619760" cy="31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avelers may find people overseas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straitlaced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in some ways but surprisingly free in other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any believe those in religion are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straitlaced,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but that is not always tru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3429000" y="3505320"/>
            <a:ext cx="2117880" cy="32004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ansient-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sting only a short ti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62120" y="609480"/>
            <a:ext cx="7086600" cy="48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 bad mood was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transien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, and by the time he’d finished his breakfast, he was smil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beauty of nature is often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transien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191120" y="3809880"/>
            <a:ext cx="2212920" cy="27702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wieldy-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t easily carried,handled,or managed because of si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t 5-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recept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oporifi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alutary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traitlac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cathing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ransi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courge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unwield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pulchral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vapi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295280" y="457200"/>
            <a:ext cx="63248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aking the supplies up the mountain clearly proved to be an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unwieldy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proces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200400" y="2819520"/>
            <a:ext cx="2514600" cy="36003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apid-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ull uninteresting,tireso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838080" y="380880"/>
            <a:ext cx="65534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ile critics called the movie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 vapid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I thought the performers were very compelling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343400" y="2438280"/>
            <a:ext cx="3724200" cy="42674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523880" y="1219320"/>
            <a:ext cx="6629400" cy="29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Precept-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 rule of conduct or actio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80880" y="533520"/>
            <a:ext cx="79250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y religions follow the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precep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that it is important to treat others as you,yourself, would like to be treat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438280" y="2666880"/>
            <a:ext cx="5334120" cy="40006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lutary-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neficial,helpful:healthful,wholeso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066680" y="380880"/>
            <a:ext cx="723924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cute puppy had a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salutary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effect on her health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ruits and vegetables have a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salutary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ffect on health, too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666880" y="3581280"/>
            <a:ext cx="4038840" cy="30290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athing-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itterly severe, withering:causing great ha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143000" y="380880"/>
            <a:ext cx="632448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times a carefully reasoned discussion does more to change peoples minds than a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scathing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ttack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895480" y="3341520"/>
            <a:ext cx="5791320" cy="32385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ourge-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 whip,punish severely; source of severe criticis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9T10:20:32Z</dcterms:created>
  <dc:creator>laxgurl224</dc:creator>
  <dc:description/>
  <dc:language>en-US</dc:language>
  <cp:lastModifiedBy>Nancy</cp:lastModifiedBy>
  <dcterms:modified xsi:type="dcterms:W3CDTF">2009-01-01T19:29:09Z</dcterms:modified>
  <cp:revision>6</cp:revision>
  <dc:subject/>
  <dc:title>PowerPoint Presentation</dc:title>
</cp:coreProperties>
</file>