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4523-F2A0-455F-9080-C0F32F8A6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DF3C-E908-45D6-9E07-A005CFF26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F797-D733-40FD-9B7A-48B0FF9DE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CBA7-A1FE-4427-AB85-C8A49B5C7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BB803-7BFC-478C-8162-AD19BCFF2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7E7CA-5F82-453E-A0E7-F42E216EB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2ADCD-3B96-4996-AB73-00778A057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622E5-2218-497F-AA70-52D732CB7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C2F4E-5FB7-4D46-A1C6-958D69851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DB8A8-BA86-455B-ADC7-79BABD523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33166-625D-474C-A2FE-ED8263BB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858C-2408-4DC0-80FB-5F82417CA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F3D5F-04C1-4443-B337-F6095BC2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FEAA2-6E9D-493E-9AB3-E26B99C6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DCA0E-6C9B-443F-86A0-9F4F152AB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0B54C-C6D3-4079-BF28-E3D37BF55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01ABD-B7E7-4FBA-9EA1-935CCF0F3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F4E7-C2E3-4830-9D5A-C04559D21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6FA5-74FA-4852-874C-7EFA19BA6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E9A7-CD4F-4FF9-B321-8DF2CB605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0EF3-B26C-4922-9B0E-51A9B78CB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2A8C-387C-40F5-831C-8B34ACF6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BB17-33FB-45E7-9028-2EFEC813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D74F-283B-472A-8696-BA68F390D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F79B8-AD6D-4CCA-BDB3-6E1F96B622F1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4D793-705D-4EAC-928F-3816FAA97F83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Vocabulary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Level F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Unit 2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Part A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allow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y entered the army as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callow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recruits and left as seasoned veterans.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2743200" y="3505320"/>
            <a:ext cx="3957480" cy="30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rivel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aliva or mucas flowing from the mouth or nose; foolish, aimless talk or thinking; nonsens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yn:  balderdash, hogwash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rivel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o me, my dream of becoming an astronaut made perfect sense, but when I told it to my friend, it sounded like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drivel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.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2895480" y="3581280"/>
            <a:ext cx="327672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pitome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 summary, condensed account; an instance that represents a larger reality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yn:  model, archetype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pitome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dmitting when you have been fairly defeated is the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epitome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of sportsmanship.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Oprah is the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epitome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of a TV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tar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4800600" y="3429000"/>
            <a:ext cx="28576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xhort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o urge strongly, advise earnestly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yn:  entreat, implore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xhor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ith dramatic gestures, our captain vigorously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exhorted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the team to play harder.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6324480" y="3505320"/>
            <a:ext cx="1959120" cy="297180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2"/>
          <a:stretch/>
        </p:blipFill>
        <p:spPr>
          <a:xfrm>
            <a:off x="685800" y="3733920"/>
            <a:ext cx="428616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x officio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y virtue of holding a certain offic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x officio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President is the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ex officio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commander in chief of the armed forces in time of war.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President of th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ollege is an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ex officio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ember of the Board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of Trustee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6324480" y="3124080"/>
            <a:ext cx="27068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fringe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o violate, trespass, go beyond recognized bound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yn:  encroach, intrude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Unit 2-A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ameliorate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epitome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aplomb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exhort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bombastic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ex officio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callow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infringe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drivel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ingratiate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fringe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f you continue to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infringe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on my responsibilities, will you also take the blame for any mistakes?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any feel surveillanc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ameras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infringe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o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People’s right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6629400" y="3048120"/>
            <a:ext cx="21718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gratiate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o make oneself agreeable and thus gain favor or acceptance by others (sometimes used in a critical or derogatory sense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yn:  cozy up to, curry favor with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gratiate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t is not a good idea to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ingratiate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oneself by paying insincere compliments.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1905120" y="2900520"/>
            <a:ext cx="5257800" cy="39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meliorat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o improve, make better, correct a flaw or shortcoming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yn:  amend, better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meliorat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 hot meal can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ameliorate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the discomforts of even the coldest day.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2666880" y="3581280"/>
            <a:ext cx="358164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plomb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Poise, assurance, great self-confidenc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yn:  composure, levelheadedness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plomb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onsidering th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amily’s tense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ood, you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andled the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tuation with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aplomb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.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4724280" y="457200"/>
            <a:ext cx="40244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ombastic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Pompous or overblown in language; full of high-sounding words intended to conceal a lack of ideas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yn:  inflated, pretentious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ombastic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e delivered a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bombastic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speech that did not even address the problem. 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2057400" y="3809880"/>
            <a:ext cx="487692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allow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ithout experience; immature, not fully develope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yn:  green, raw, unfledged, inexperienced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3:43:20Z</dcterms:created>
  <dc:creator>NPSD</dc:creator>
  <dc:description/>
  <dc:language>en-US</dc:language>
  <cp:lastModifiedBy>Nancy</cp:lastModifiedBy>
  <dcterms:modified xsi:type="dcterms:W3CDTF">2009-01-01T19:03:21Z</dcterms:modified>
  <cp:revision>6</cp:revision>
  <dc:subject/>
  <dc:title>Vocabulary  Level F Unit 2 Part A </dc:title>
</cp:coreProperties>
</file>