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14A-A4D6-4556-AA1F-FA00E9D6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037-95D8-49F5-A984-2E1C0790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473-111C-449E-A0FE-985DF632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01B-62E3-4340-B429-CB97659D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232D-8C88-4D89-9F5C-F137739E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127-F614-4B28-948F-779BD059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A2E3-0C4E-4F34-8664-922DD91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842-946E-4558-A530-47BC88C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B8E7-D706-4E42-BAB2-215ED725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E65-5071-4D5F-9EB3-44AC3DAF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4C9E-E855-40A5-884A-5B4903A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9B1-B46B-4019-8130-F288E4D1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0A94-237F-4435-988B-FF6780C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63D-6CDF-4D7B-9357-A5B4B1C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0798-06B0-4BB7-B0C6-130B8746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F53F-8B5E-4F86-8037-D6329077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D6E-0DA9-4CAA-9B4F-12AD3534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B52-F1EE-493D-AFDE-1F2DDE8B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0D0-FED7-433B-9C2A-D6E088A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398-790F-4046-8F50-E69ACCF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385-7B50-469B-A708-509ECE93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792-33EA-4184-8312-7772ACE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69A-F315-4943-806C-B3A320C0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57A-6215-48FF-88E6-0CFD4DE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8D46-D31C-4478-BE10-E59B314B28A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B317-5605-499E-BFEB-388124914C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Vocabula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vel 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Unit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Part A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ntered the army 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allow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recruits and left as seasoned veteran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957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iva or mucas flowing from the mouth or nose; foolish, aimless talk or thinking; nonsen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balderdash, hogwas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ivel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e, my dream of becoming an astronaut made perfect sense, but when I told it to my friend, it sounded lik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iv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summary, condensed account; an instance that represents a larger real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model, archetyp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itom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mitting when you have been fairly defeated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sportsmanship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prah is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pitom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 T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urge strongly, advise earnestl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treat, implo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h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dramatic gestures, our captain vigorous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hort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team to play harde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1959120" cy="2971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rtue of holding a certain offi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 offic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is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mmander in chief of the armed forces in time of war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esident of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ge is 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x offic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er of the Boar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f Truste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70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violate, trespass, go beyond recognized bou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encroach, intrud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-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meliorate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pito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lomb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h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bombasti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ex offici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allo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fring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drivel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ngrati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ring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you continue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 my responsibilities, will you also take the blame for any mistakes?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feel surveill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era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fring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’s righ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171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oneself agreeable and thus gain favor or acceptance by others (sometimes used in a critical or derogatory sen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zy up to, curry favor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gratia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not a good idea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ingrati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neself by paying insincere compliments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905120" y="2900520"/>
            <a:ext cx="52578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improve, make better, correct a flaw or shortcom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amend, bett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elior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hot meal ca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meliorat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discomforts of even the coldest day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581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ise, assurance, great self-conf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composure, levelheadedn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l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ing t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mily’s tens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od, you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dled th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tuation with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plom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2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mpous or overblown in language; full of high-sounding words intended to conceal a lack of ide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inflated, pretentiou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mbastic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delivered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mbastic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speech that did not even address the problem.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769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low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out experience; immature, not fully develop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yn:  green, raw, unfledged, inexperience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3:20Z</dcterms:created>
  <dc:creator>NPSD</dc:creator>
  <dc:description/>
  <dc:language>en-US</dc:language>
  <cp:lastModifiedBy>Nancy</cp:lastModifiedBy>
  <dcterms:modified xsi:type="dcterms:W3CDTF">2009-01-01T19:03:21Z</dcterms:modified>
  <cp:revision>6</cp:revision>
  <dc:subject/>
  <dc:title>Vocabulary  Level F Unit 2 Part A </dc:title>
</cp:coreProperties>
</file>