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D9E-52B8-4D2D-BF16-0DF4F8F2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AA7D-B272-46C7-89E3-BD480720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8819-661E-4C64-9CA9-6D0BE42C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FE58-90DA-4911-9002-7A6250AA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8935-C450-4CE4-B161-CC15473C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4586-05E7-478E-BE3F-005BB4B2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5905-974D-40EE-94DD-488BF74B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8465-CC86-4F7D-A84C-4DC5FCD2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9CFE-3593-474C-9645-B07B1FFD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CD95-F578-4D03-98F2-AF8508A2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03A6-1E49-4438-A26D-D59C3E23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FBE7-BEDE-4520-BF7E-1779C243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3BDD-519D-4894-A70E-E0914445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16A2-9F6B-432A-A222-02E552A5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7236-E8BE-4A34-9B8E-4488E863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8B26-96B3-41C0-833E-65053ECC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0937-B266-4520-9FA7-1FE0FD0C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D17F-5884-4C8C-86D7-17E3CDD2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C96-09E4-457B-8E36-B6F9971F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0AFC-4EAC-44AF-9182-FE9041A1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DB95-25FE-4022-99CB-99437969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52E9-E033-4253-8C66-BF141DC1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42F2-F2CF-4A63-A75D-1AE87450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2F8F-5FCC-4424-AA6E-27536B41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76A6-DD2A-426D-8669-D8EB0105FAC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C7EB-9F9D-4FC6-B574-BB65C997951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Vocabulary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Level F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Unit 2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Part A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llo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entered the army as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callow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recruits and left as seasoned veterans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39574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rivel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aliva or mucas flowing from the mouth or nose; foolish, aimless talk or thinking; nonsen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balderdash, hogwash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rivel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me, my dream of becoming an astronaut made perfect sense, but when I told it to my friend, it sounded lik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drivel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2895480" y="3581280"/>
            <a:ext cx="32767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pitom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summary, condensed account; an instance that represents a larger reality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model, archetyp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pitom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mitting when you have been fairly defeated is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pitom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f sportsmanship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prah is th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pitom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f a TV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a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2857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hort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urge strongly, advise earnestly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entreat, implor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ho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th dramatic gestures, our captain vigorously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xhorte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the team to play harder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6324480" y="3505320"/>
            <a:ext cx="1959120" cy="29718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42861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 officio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virtue of holding a certain offi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 officio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President is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x officio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commander in chief of the armed forces in time of war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President of th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llege is an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x offici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ember of the Board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f Truste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2706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fring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violate, trespass, go beyond recognized boun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encroach, intrud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nit 2-A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ameliorate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epitom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aplomb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exhor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bombastic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ex offici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callow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infring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drivel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ingratiat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fring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you continue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infring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n my responsibilities, will you also take the blame for any mistakes?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ny feel surveilla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meras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infring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eople’s righ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2171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gratiat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make oneself agreeable and thus gain favor or acceptance by others (sometimes used in a critical or derogatory sens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cozy up to, curry favor with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gratiat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is not a good idea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ingratiat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neself by paying insincere compliments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905120" y="2900520"/>
            <a:ext cx="525780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meliora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improve, make better, correct a flaw or shortcom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amend, better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meliora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hot meal can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meliorat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the discomforts of even the coldest day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358164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lomb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ise, assurance, great self-confid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composure, levelheadednes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lomb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sidering th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amily’s tens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ood, you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ndled th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tuation with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plomb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4724280" y="457200"/>
            <a:ext cx="4024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mbastic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mpous or overblown in language; full of high-sounding words intended to conceal a lack of idea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inflated, pretentiou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mbastic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 delivered a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bombastic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speech that did not even address the problem.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48769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llow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thout experience; immature, not fully develop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green, raw, unfledged, inexperienced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3:43:20Z</dcterms:created>
  <dc:creator>NPSD</dc:creator>
  <dc:description/>
  <dc:language>en-US</dc:language>
  <cp:lastModifiedBy>Nancy</cp:lastModifiedBy>
  <dcterms:modified xsi:type="dcterms:W3CDTF">2009-01-01T19:03:21Z</dcterms:modified>
  <cp:revision>6</cp:revision>
  <dc:subject/>
  <dc:title>Vocabulary  Level F Unit 2 Part A </dc:title>
</cp:coreProperties>
</file>