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57E-3338-4722-BC8E-622C73DF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D94-7305-447A-91BB-13046EB1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F74-4B48-4783-83BB-DC28DCB4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AD1-CD70-498F-B9C2-81978313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3A4A-E819-45CC-9ACB-4E934847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23A2-EC64-45FA-B158-91CE663D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B840-D664-4AFC-A1BA-ED90E3C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0929-D5DE-4982-A70F-C32D5EE5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78EC-7702-40B9-A5F9-CBC958E5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5080-2CE3-471A-856F-856B85CE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BFB1-E4F1-4D4E-8B00-6BBDACB7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A89-E364-4BD1-A455-283A489F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38AE-4109-48B9-9FF7-F3CF70F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5DD5-6E9A-4E7D-AA96-767BBB8C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123D-2CF3-4893-BA54-91B4B5D4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3C44-91F9-4873-96AC-57020649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8D14-ABD9-448C-A04B-E065B828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72B-3C58-45B4-B78A-6BADA3B8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2F3-FC1C-490E-9169-9FD1F13D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BBD-F85F-488C-BB98-2EC9EAEC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C13-C14E-4347-911E-011C08D9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965-9225-464D-B97B-709E4ED1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E5B-5376-4C8C-83C8-7620BAEF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B98-0B15-4765-947A-72DCE42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78D-6A92-4CF4-8D06-D0F47CFFE26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B81A-D70F-4D29-824A-72248F7BB7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Vocabular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Part A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entered the army 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callow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recruits and left as seasoned veteran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957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liva or mucas flowing from the mouth or nose; foolish, aimless talk or thinking; nonsen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balderdash, hogwas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e, my dream of becoming an astronaut made perfect sense, but when I told it to my friend, it sounded li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riv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276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summary, condensed account; an instance that represents a larger realit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model, archetyp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mitting when you have been fairly defeated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sportsmanship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prah is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a T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urge strongly, advise earnestl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treat, implor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dramatic gestures, our captain vigorous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hort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team to play harde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1959120" cy="29718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virtue of holding a certain off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ommander in chief of the armed forces in time of wa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of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lege is 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mber of the Boar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f Truste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270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violate, trespass, go beyond recognized b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croach, intrud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it 2-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meliorate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pito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plomb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hor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bombastic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 offici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callow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fring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drivel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gratiat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you continue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 my responsibilities, will you also take the blame for any mistakes?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y feel surveill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mer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ople’s righ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171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ake oneself agreeable and thus gain favor or acceptance by others (sometimes used in a critical or derogatory sens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zy up to, curry favor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not a good idea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grati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eself by paying insincere compliment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905120" y="2900520"/>
            <a:ext cx="52578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improve, make better, correct a flaw or shortcom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amend, bette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hot meal c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melior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discomforts of even the coldest day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581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ise, assurance, great self-confi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mposure, levelheadednes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sidering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mily’s tens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od, you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ndled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tuation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plomb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24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mpous or overblown in language; full of high-sounding words intended to conceal a lack of idea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inflated, pretentiou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delivered 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bombastic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speech that did not even address the problem.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769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out experience; immature, not fully develop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green, raw, unfledged, inexperience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3:20Z</dcterms:created>
  <dc:creator>NPSD</dc:creator>
  <dc:description/>
  <dc:language>en-US</dc:language>
  <cp:lastModifiedBy>Nancy</cp:lastModifiedBy>
  <dcterms:modified xsi:type="dcterms:W3CDTF">2009-01-01T19:03:21Z</dcterms:modified>
  <cp:revision>6</cp:revision>
  <dc:subject/>
  <dc:title>Vocabulary  Level F Unit 2 Part A </dc:title>
</cp:coreProperties>
</file>