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48C-790B-419D-A689-A4E8D6EB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2B3-1653-4DD9-B061-F2B6F49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947-02A3-476F-96A7-39AE34D3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C88-D519-4BAA-940E-4E0A555D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292-DE7A-43D0-B332-6A8BF493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AD70-38C0-4EB0-B06D-37219CA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1676-6A2F-4879-997F-A1DF6B9D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8224-0158-4E61-909D-5CB1C0DE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1CA-4738-40E1-B7DC-F61BBCE2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F7BE-71CD-47E2-92A3-05327ADD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3F29-A5F3-44D1-8F00-38B8C76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1C8-BF55-45EC-8F59-D0CBBA1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AE4-BDA6-41C8-A399-803DE7DB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391-1CFB-406E-8C8C-3CC9929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53C5-4A63-4C0C-B7A9-F8CEF192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8D8-619E-4FBE-B3FD-CE08211B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DC6-82E6-425B-B1C2-A1A85EA1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C90-C842-400E-BF3D-DA3495D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07A-D28E-4BF6-9908-35E8034E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11C-8F11-4B59-8B3F-2317B1B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953-0255-4199-89A8-8B747594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80C-A680-4E6A-99B9-6EA03C6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4D0-DD44-47EE-AEC6-62E828E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19D-0BE0-4A73-81A7-D8D7B04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8981-CB78-4E05-9552-E84C09F11D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390-77E8-4727-8815-CD5CC76166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lairweb.org.nz/leonardo/monalisa.jpg&amp;imgrefurl=http://yedda.com/questions/Mona_Lisa_Gherardini_Leonardo_4953636164811/&amp;usg=__xSVMyrq6hrYBPGwoxk2HkQ4kalQ=&amp;h=520&amp;w=334&amp;sz=17&amp;hl=en&amp;start=2&amp;tbnid=k5zxeehGDtKFcM:&amp;tbnh=131&amp;tbnw=84&amp;prev=/images%3Fq%3DMona%2Blisa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7.photobucket.com/albums/y298/Zahgon/MonaLisa.jpg&amp;imgrefurl=http://renaissanceandart.blogspot.com/2007/04/mona-lisa-smile-secrets-revealed.html&amp;usg=__IsjEBxx95qhchvJZz9UDECHBYIw=&amp;h=354&amp;w=267&amp;sz=56&amp;hl=en&amp;start=13&amp;tbnid=bO_SqPLKRhsLlM:&amp;tbnh=121&amp;tbnw=91&amp;prev=/images%3Fq%3DMona%2Blisa%26gbv%3D2%26hl%3Den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 Level 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t 1 Part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05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Mertori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 worthy, deserving recognition and pra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raiseworthy, laudable, commend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blameworthy, reprehen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year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ERITOR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rvice could not dissuade him from feeling that he had not chosen work that he li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+++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9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evish, annoyed by trif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ble, testy, waspis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even-tempered, placid, sere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verworked parent may be unlikely to indulge the complaints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UL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h Humbu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enezer Scroo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ade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vinc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uri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mu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eritoriou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ransc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etula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mbra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erogativ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nctuo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A special right or privilege, special qual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erquisite, pe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eemed to feel that a snooze at her desk was not an annoying habit but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ROGA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veteran employe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819920" cy="493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tice the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njo, once thought to be a PROVINCIAL product of the Southern hills, actually came here from Afr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provincial ro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6096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rtaining to an outlying area; loc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narrow-minded, parochial, insul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cosmopolitan, catholic, broad-minded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make a pretense, imi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feign, pretend, af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skilled actors c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IMUL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s they might never have felt in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60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rise above or beyond, exc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urpass, outstr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mark of art may be sai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RANSCE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, and it is remembered for decades, or even centur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3657600"/>
            <a:ext cx="192384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3657600"/>
            <a:ext cx="2243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ssence of human life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ranscend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ur differenc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offense, rese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tion, pique, annoy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ure, delight,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hesitated to offer her opinion, fearing that they would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MBR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her criticism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6480" y="714240"/>
            <a:ext cx="67910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)wearied, worn out, du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ated, surfeited, cl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Unspoiled, uncloy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Excessively smooth or smu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Mealymouthed. Servile. Fawning, greas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Gruff, blu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consistent inquiring about the health of my family at first seemed friendly, later mere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CTU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ilted handclasp and the fast-melting smile mark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JA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ugee of too many par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Causing shock, ho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gruesome, gory, grisly, ghas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ant, attractive, appea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ght, sensational and oft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UR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me old-time movie posters make today’s newspaper ads look t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2:02:00Z</dcterms:created>
  <dc:creator>NPSD</dc:creator>
  <dc:description/>
  <dc:language>en-US</dc:language>
  <cp:lastModifiedBy>NPSD</cp:lastModifiedBy>
  <dcterms:modified xsi:type="dcterms:W3CDTF">2009-02-06T16:37:41Z</dcterms:modified>
  <cp:revision>9</cp:revision>
  <dc:subject/>
  <dc:title>~*!Vocabulary Level F!*~</dc:title>
</cp:coreProperties>
</file>