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B023-CA19-49DC-93F6-55962328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65BB-6B45-4EB8-8E24-0E689C2F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E91A-548C-4454-BDDF-E977B5AA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69A9-7EA1-4972-B761-8B62CE69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8ED2-7914-474D-B271-39982529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AC5E-1448-4ED8-B23A-B2419DA1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923E-ABD0-486C-A776-789CD761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9115-1EF9-4276-9152-E86EB19C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B5EF-0E3A-421D-89F3-21A5659B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04E5-3FDF-4000-8564-0BCE1E67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5AA6-9A66-42AD-B818-CFC579CD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0C58-6D2F-41A9-A5B8-DA9C49F7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F6BB-2CD5-4D4C-B3A7-A4BA0B7B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51B2-B3AA-4270-B44F-EE2743A9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1134-C562-4EBE-A6C4-BB49DCF6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8EEA-51C4-4578-85C5-DC8C92D3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8AE5-6797-4BCB-AC78-A3E2A3F4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F676-6D7E-4074-879E-A42447A3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88CD-D237-4817-94E6-DF7506E1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6FD2-8DA2-43CE-8968-4157AF51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D57A-4B15-44BD-AA2A-CD883EB9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A970-566D-4B16-9921-12219CD5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07FA-5792-455B-AD71-7517F0B8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49B8-08EF-4679-B28D-4CF050A4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9F2A-7F25-4878-8F34-02899DA2E86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2754-3846-4C0D-963E-58DAF913B48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lairweb.org.nz/leonardo/monalisa.jpg&amp;imgrefurl=http://yedda.com/questions/Mona_Lisa_Gherardini_Leonardo_4953636164811/&amp;usg=__xSVMyrq6hrYBPGwoxk2HkQ4kalQ=&amp;h=520&amp;w=334&amp;sz=17&amp;hl=en&amp;start=2&amp;tbnid=k5zxeehGDtKFcM:&amp;tbnh=131&amp;tbnw=84&amp;prev=/images%3Fq%3DMona%2Blisa%26gbv%3D2%26hl%3Den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images.google.com/imgres?imgurl=http://i7.photobucket.com/albums/y298/Zahgon/MonaLisa.jpg&amp;imgrefurl=http://renaissanceandart.blogspot.com/2007/04/mona-lisa-smile-secrets-revealed.html&amp;usg=__IsjEBxx95qhchvJZz9UDECHBYIw=&amp;h=354&amp;w=267&amp;sz=56&amp;hl=en&amp;start=13&amp;tbnid=bO_SqPLKRhsLlM:&amp;tbnh=121&amp;tbnw=91&amp;prev=/images%3Fq%3DMona%2Blisa%26gbv%3D2%26hl%3Den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Vocabulary Level F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it 1 Part 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40543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Mertorious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eritoriou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Adj. worthy, deserving recognition and prai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praiseworthy, laudable, commendab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blameworthy, reprehensib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eritoriou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y year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MERITORIOU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ervice could not dissuade him from feeling that he had not chosen work that he lik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 +++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0956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Petulant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etula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adj.) peevish, annoyed by trif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irritable, testy, waspis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even-tempered, placid, sere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etula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overworked parent may be unlikely to indulge the complaints of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ETULA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hil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181480" y="2819520"/>
            <a:ext cx="2448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ah Humbu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benezer Scroo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666880" y="26668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Prerogative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jaded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rovincia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lurid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imulat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meritorious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ranscen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etulant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umbrag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rerogative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unctuou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erogati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n.) A special right or privilege, special qualit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perquisite, per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erogati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seemed to feel that a snooze at her desk was not an annoying habit but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REROGATIV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f a veteran employee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914400" y="1547640"/>
            <a:ext cx="7819920" cy="49388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otice the flag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Provincial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ovincia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banjo, once thought to be a PROVINCIAL product of the Southern hills, actually came here from Afric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 provincial roa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23880" y="1754280"/>
            <a:ext cx="609624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ovincial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adj.) Pertaining to an outlying area; loca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narrow-minded, parochial, insula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cosmopolitan, catholic, broad-minded.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Simulate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imula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v.) To make a pretense, imita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feign, pretend, affec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imulate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skilled actors c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SIMULAT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emotions they might never have felt in lif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200400" y="2819520"/>
            <a:ext cx="27608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53352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Jaded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3962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Transcend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ranscen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v.) To rise above or beyond, exce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surpass, outstrip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ranscen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great mark of art may be sai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RANSCEN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ime, and it is remembered for decades, or even centuri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62320" y="3657600"/>
            <a:ext cx="1923840" cy="30002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05520" y="3657600"/>
            <a:ext cx="22431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essence of human life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transcends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our difference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6201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Umbrage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mbrag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n.) offense, resent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irritation, pique, annoyan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pleasure, delight, satisfac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mbrag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hesitated to offer her opinion, fearing that they would t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UMBRA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t her criticism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176480" y="714240"/>
            <a:ext cx="67910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Unctuous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Jade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adj.)wearied, worn out, dul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sated, surfeited, cloyed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Unspoiled, uncloy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ctuou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adj.) Excessively smooth or smu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Mealymouthed. Servile. Fawning, greas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Gruff, blun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ctuou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r consistent inquiring about the health of my family at first seemed friendly, later mere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UNCTUOU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4000320" cy="4572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638680" y="762120"/>
            <a:ext cx="2987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Jade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wilted handclasp and the fast-melting smile mark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JAD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efugee of too many parti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16256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Lurid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uri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(adj.) Causing shock, horr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. gruesome, gory, grisly, ghastl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. pleasant, attractive, appeal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uri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ight, sensational and ofte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LURI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some old-time movie posters make today’s newspaper ads look tam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5T12:02:00Z</dcterms:created>
  <dc:creator>NPSD</dc:creator>
  <dc:description/>
  <dc:language>en-US</dc:language>
  <cp:lastModifiedBy>NPSD</cp:lastModifiedBy>
  <dcterms:modified xsi:type="dcterms:W3CDTF">2009-02-06T16:37:41Z</dcterms:modified>
  <cp:revision>9</cp:revision>
  <dc:subject/>
  <dc:title>~*!Vocabulary Level F!*~</dc:title>
</cp:coreProperties>
</file>