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886-DBB8-427E-B19C-C89F8899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7A2-8376-437F-994E-EC1190A6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BB3-0232-4243-ACA1-508E49A2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3BA-7718-4676-B9B2-95B744C6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19A-2B6D-4088-A715-97C52031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E119-20D9-425B-B199-53A9DD6F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6A0E-914D-4BB8-975F-018BB8A7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B6C4-BB9F-4F65-9C43-1CDC986C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D693-23EE-49C2-AD75-B84EE1D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4657-7FF3-429E-816A-62B0B56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5AC7-930D-4C0B-9E98-2A90CC9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EE3-2A75-42EC-8759-F7D1CF7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BFD-D9E1-48B2-964A-032CE14F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4C07-3DCF-4EEE-8424-5EBB463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643C-404D-421F-B6D6-2C463C6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765-8494-4866-B5F4-C5EBE50C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DEE0-CCDB-4DD2-8CFF-7E6C1833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AE3-5221-448A-BF34-3BE7AEAE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9E0-BD73-4F3F-B751-FC9BF3E8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17E-6F40-4207-8836-20B46B79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E2D-4000-4D99-A197-9D4006E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123-37F5-425C-9334-2ACF880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A01-55A9-40AC-870A-7750379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63C-FCA9-4D76-88DD-BA96C8E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02F-E1D4-4A0A-A9F7-39B3E23F8B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EC9-6977-42F7-BAEE-5836ECEBA4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lairweb.org.nz/leonardo/monalisa.jpg&amp;imgrefurl=http://yedda.com/questions/Mona_Lisa_Gherardini_Leonardo_4953636164811/&amp;usg=__xSVMyrq6hrYBPGwoxk2HkQ4kalQ=&amp;h=520&amp;w=334&amp;sz=17&amp;hl=en&amp;start=2&amp;tbnid=k5zxeehGDtKFcM:&amp;tbnh=131&amp;tbnw=84&amp;prev=/images%3Fq%3DMona%2Blisa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7.photobucket.com/albums/y298/Zahgon/MonaLisa.jpg&amp;imgrefurl=http://renaissanceandart.blogspot.com/2007/04/mona-lisa-smile-secrets-revealed.html&amp;usg=__IsjEBxx95qhchvJZz9UDECHBYIw=&amp;h=354&amp;w=267&amp;sz=56&amp;hl=en&amp;start=13&amp;tbnid=bO_SqPLKRhsLlM:&amp;tbnh=121&amp;tbnw=91&amp;prev=/images%3Fq%3DMona%2Blisa%26gbv%3D2%26hl%3Den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 Level 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t 1 Part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05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Mertori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 worthy, deserving recognition and pra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raiseworthy, laudable, commend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blameworthy, reprehen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year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ERITOR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rvice could not dissuade him from feeling that he had not chosen work that he li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+++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9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evish, annoyed by trif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ble, testy, waspis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even-tempered, placid, sere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verworked parent may be unlikely to indulge the complaints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UL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h Humbu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enezer Scroo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ade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vinc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uri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mu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eritoriou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ransc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etula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mbra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erogativ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nctuo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A special right or privilege, special qual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erquisite, pe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eemed to feel that a snooze at her desk was not an annoying habit but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ROGA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veteran employe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819920" cy="493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tice the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njo, once thought to be a PROVINCIAL product of the Southern hills, actually came here from Afr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provincial ro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6096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rtaining to an outlying area; loc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narrow-minded, parochial, insul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cosmopolitan, catholic, broad-minded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make a pretense, imi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feign, pretend, af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skilled actors c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IMUL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s they might never have felt in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60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rise above or beyond, exc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urpass, outstr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mark of art may be sai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RANSCE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, and it is remembered for decades, or even centur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3657600"/>
            <a:ext cx="192384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3657600"/>
            <a:ext cx="2243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ssence of human life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ranscend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ur differenc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offense, rese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tion, pique, annoy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ure, delight,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hesitated to offer her opinion, fearing that they would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MBR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her criticism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6480" y="714240"/>
            <a:ext cx="67910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)wearied, worn out, du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ated, surfeited, cl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Unspoiled, uncloy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Excessively smooth or smu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Mealymouthed. Servile. Fawning, greas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Gruff, blu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consistent inquiring about the health of my family at first seemed friendly, later mere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CTU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ilted handclasp and the fast-melting smile mark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JA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ugee of too many par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Causing shock, ho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gruesome, gory, grisly, ghas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ant, attractive, appea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ght, sensational and oft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UR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me old-time movie posters make today’s newspaper ads look t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2:02:00Z</dcterms:created>
  <dc:creator>NPSD</dc:creator>
  <dc:description/>
  <dc:language>en-US</dc:language>
  <cp:lastModifiedBy>NPSD</cp:lastModifiedBy>
  <dcterms:modified xsi:type="dcterms:W3CDTF">2009-02-06T16:37:41Z</dcterms:modified>
  <cp:revision>9</cp:revision>
  <dc:subject/>
  <dc:title>~*!Vocabulary Level F!*~</dc:title>
</cp:coreProperties>
</file>