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785-3BAF-4615-99D5-A0B9C2CF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4BA-2B91-4272-9F0C-8530DE6D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72D-4613-472B-A238-DF3C2BAB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0C4-6D85-49C4-A3AD-32310C02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F0A04-AD25-4207-A9E6-CF7C167A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DCAB0-1FF6-4864-BDA1-8EDF1A18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86CC5-24C3-4AB7-A204-638CB180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DD14C-854D-417C-AFF4-7FC2004B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A299D-517D-4906-A28D-8F8C6B5A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13465-99FA-4AB5-85BE-D28D064F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C1079-0D6F-433D-B1DC-5191E307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6B5-BBFC-4191-9D9D-178C61FD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7B1C5-F2F8-43EF-A70D-3CD8227F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0AF13-4A4F-4F35-AB55-B5150515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72777-76F6-45C9-9C1A-F00ABB07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F4C7C-945F-4EB6-AC0A-C1BF2DAC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BC41F-3463-4F41-8640-E83BA433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352-91E1-4BD0-88A3-0C457DFB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530-DAF9-4779-B50F-B1B06AC1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037-E11D-4B50-9CF9-F8333FD8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8E5-612E-4728-971D-406A248C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D19-5B65-4964-9688-D1FA0B8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D76-B006-4922-B0C6-37BFAEE5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DC6-F3CF-4256-B9A7-8A51C9F2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4A28-3BFA-497B-93A8-0DBE851E4B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E802-5A10-4C74-BDF8-36DA7FEAC1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e3ff"/>
                </a:solidFill>
                <a:latin typeface="Arial"/>
              </a:rPr>
              <a:t>Vocabulary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Level F</a:t>
            </a:r>
            <a:br>
              <a:rPr sz="60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Unit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ar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alitio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343400" cy="403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ali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lliance, league, federation, comb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 various community organizations form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al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lobby against parking law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ad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, decay, or deterioration; a condition or period of decline or decay; excessive self-indul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cadenc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733560" cy="3525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Image Copyright 2006 James Wakefield - All Rights Reserved"/>
          <p:cNvPicPr/>
          <p:nvPr/>
        </p:nvPicPr>
        <p:blipFill>
          <a:blip r:embed="rId2"/>
          <a:stretch/>
        </p:blipFill>
        <p:spPr>
          <a:xfrm>
            <a:off x="228600" y="2362320"/>
            <a:ext cx="45910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ad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degeneration,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ome characterized her love of chocolate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ad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she ate at least two candy bars a d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licit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raw forth, bring out from some source (such as another pers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cc"/>
                </a:solidFill>
                <a:latin typeface="Arial"/>
              </a:rPr>
              <a:t>Elicit</a:t>
            </a:r>
            <a:r>
              <a:rPr b="1" lang="en-US" sz="6000" spc="-1" strike="noStrike">
                <a:solidFill>
                  <a:srgbClr val="e3e3ff"/>
                </a:solidFill>
                <a:latin typeface="Arial"/>
              </a:rPr>
              <a:t>:</a:t>
            </a:r>
            <a:br>
              <a:rPr sz="6000"/>
            </a:b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657600" cy="4152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510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ici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 call forth, evoke, extract, e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tence:  My attempt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ic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formation over the phone was met with a barrage of irrelevant record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ostul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ttempt to dissuade someone from some course or decision by earnest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postulat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360" y="2286000"/>
            <a:ext cx="3489480" cy="419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33920" y="2438280"/>
            <a:ext cx="541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rob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postu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su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kne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ali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at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cadenc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nuen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ici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ce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ostul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protest, remonstrate, comp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hakespeare’s Hamlet finds it useles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ostul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mother for siding with his stepfa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ckney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so often as to lack freshness or origi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ackneyed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51324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3400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ckney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banal, trite, commonplace, cor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 Great Gatsby tells a universal story without being ruin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ackney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se and descrip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a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ap, opening, break (in the sense of having an element missing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iatu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a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p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 was awakened not by a sudden sound but by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i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n of traffic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nuen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nt, indirect suggestion, or reference (often in a derogatory sense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nuendo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35360" y="2438280"/>
            <a:ext cx="4203720" cy="4419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434340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nuen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sinuation, in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ose lacking the facts or afraid of reprisals often tarnish an enemy’s reputation by us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nuend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rob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ression of approval or favorable opinion, praise; official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rce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lead on behalf of someone else; to serve as a third party or go-between in a disagre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terced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114800" cy="436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rce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tervene, med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he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ce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spute between the two children, and soon they will be playing happily agai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pprobatio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4004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robatio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commendation, sa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My broad hint that I had paid for the lessons myself brought smile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pprob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all the judges at the piano recita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ssu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easier or milder, relieve; to quiet, calm; to put an end to, appease, satisfy, qu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ssuage: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00440" y="1905120"/>
            <a:ext cx="4543560" cy="39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Mother and Baby Feeding"/>
          <p:cNvPicPr/>
          <p:nvPr/>
        </p:nvPicPr>
        <p:blipFill>
          <a:blip r:embed="rId2"/>
          <a:stretch/>
        </p:blipFill>
        <p:spPr>
          <a:xfrm>
            <a:off x="533520" y="1905120"/>
            <a:ext cx="3709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ssu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mitigate, alleviate, slake, al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Her eyes told me that more than a few well-chose words would be need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su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hurt feel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alition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bination, union, or merger for some specific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2:25:05Z</dcterms:created>
  <dc:creator>NPSD</dc:creator>
  <dc:description/>
  <dc:language>en-US</dc:language>
  <cp:lastModifiedBy>NPSD</cp:lastModifiedBy>
  <dcterms:modified xsi:type="dcterms:W3CDTF">2009-02-06T16:36:33Z</dcterms:modified>
  <cp:revision>5</cp:revision>
  <dc:subject/>
  <dc:title>Level F Vocabulary </dc:title>
</cp:coreProperties>
</file>