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E2D-4A75-466B-9239-15D43C98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41D-6E0C-4763-9187-075EDCB9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F0A-B48D-45E7-8AB1-2C06F4D2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A93-64D8-4240-8310-100BE072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18627-0B32-4115-A71A-7E77EA40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734E5-9789-4D80-87DB-0C5E04B7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A47E7-3531-4189-B34D-B7C639D0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F6A9C-1947-439C-B9C4-58B474D4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1D718-7706-46FA-A3B0-6DEA8B8B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F32B7-1EB4-4FD4-9093-92E23CA9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E0C5-CCF7-4249-B526-2CAA6AC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FEB-DB29-419C-A0DA-8B5FD33E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D40A3-A9A9-4B02-A92F-3788CFD0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8940D-1FB6-4542-BCE0-6A61F6D9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79470-C58E-43C3-B8F9-9F79B87E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70230-14F1-47A9-AD44-DB3F6D02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245E8-870D-4261-B41C-2F3A2DE1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BCF-4FCF-4B25-93CD-3ED9B968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31C-A0BE-455A-B372-4304C033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4D9-2389-475B-8CF3-77B297DC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425-E71B-4FE8-95AB-BC78CF1B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F65-47A5-490F-928F-2FBA323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977-E461-4AD8-8FA5-5E26E778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00D-328B-46DC-A77F-030BEE3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9C8D-ED4D-401E-91E1-EE3C01A1B4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A8D7-1EDD-4311-8A1B-23BC4B983D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Vocabulary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Unit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ar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ali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lliance, league, federation, com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various community organizations form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al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lobby against parking law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, decay, or deterioration; a condition or period of decline or decay; excessive self-indul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cadenc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733560" cy="3525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Image Copyright 2006 James Wakefield - All Rights Reserved"/>
          <p:cNvPicPr/>
          <p:nvPr/>
        </p:nvPicPr>
        <p:blipFill>
          <a:blip r:embed="rId2"/>
          <a:stretch/>
        </p:blipFill>
        <p:spPr>
          <a:xfrm>
            <a:off x="228600" y="2362320"/>
            <a:ext cx="4591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ad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degeneration,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ome characterized her love of chocolate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ad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cause she ate at least two candy bars a da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ici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raw forth, bring out from some source (such as another pers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cc"/>
                </a:solidFill>
                <a:latin typeface="Arial"/>
              </a:rPr>
              <a:t>Elicit</a:t>
            </a:r>
            <a:r>
              <a:rPr b="1" lang="en-US" sz="6000" spc="-1" strike="noStrike">
                <a:solidFill>
                  <a:srgbClr val="e3e3ff"/>
                </a:solidFill>
                <a:latin typeface="Arial"/>
              </a:rPr>
              <a:t>:</a:t>
            </a:r>
            <a:br>
              <a:rPr sz="60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657600" cy="4152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c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 call forth, evoke, extract, e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tence:  My attemp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ic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 over the phone was met with a barrage of irrelevant record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empt to dissuade someone from some course or decision by earnest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ostulat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360" y="2286000"/>
            <a:ext cx="3489480" cy="419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733920" y="243828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rob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ostu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u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kne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ali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a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cadenc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nuen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ici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ce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ostul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rotest, remonstrate, com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akespeare’s Hamlet finds it useles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ostul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his mother for siding with his stepfa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so often as to lack freshness or origi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ackneyed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51324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3400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ckney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banal, trite, commonplace, cor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 Great Gatsby tells a universal story without being ruin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ackney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se and descrip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p, opening, break (in the sense of having an element missing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iatu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at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p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 was awakened not by a sudden sound but by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n of traffic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nt, indirect suggestion, or reference (often in a derogatory sense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nuend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35360" y="2438280"/>
            <a:ext cx="4203720" cy="4419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43434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nuen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sinuation, in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ose lacking the facts or afraid of reprisals often tarnish an enemy’s reputation by u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uen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ression of approval or favorable opinion, praise; official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lead on behalf of someone else; to serve as a third party or go-between in a disagre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terced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114800" cy="4368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rce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tervene, med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She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ce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dispute between the two children, and soon they will be playing happily agai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pprobatio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4004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robat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mmendation, sa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y broad hint that I had paid for the lessons myself brought smile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prob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all the judges at the piano recit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easier or milder, relieve; to quiet, calm; to put an end to, appease, satisfy, qu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uage: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00440" y="1905120"/>
            <a:ext cx="4543560" cy="39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Mother and Baby Feeding"/>
          <p:cNvPicPr/>
          <p:nvPr/>
        </p:nvPicPr>
        <p:blipFill>
          <a:blip r:embed="rId2"/>
          <a:stretch/>
        </p:blipFill>
        <p:spPr>
          <a:xfrm>
            <a:off x="533520" y="1905120"/>
            <a:ext cx="3709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ssu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mitigate, alleviate, slake, al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Her eyes told me that more than a few well-chose words would be need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u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hurt feel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alition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, union, or merger for some specific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2:25:05Z</dcterms:created>
  <dc:creator>NPSD</dc:creator>
  <dc:description/>
  <dc:language>en-US</dc:language>
  <cp:lastModifiedBy>NPSD</cp:lastModifiedBy>
  <dcterms:modified xsi:type="dcterms:W3CDTF">2009-02-06T16:36:33Z</dcterms:modified>
  <cp:revision>5</cp:revision>
  <dc:subject/>
  <dc:title>Level F Vocabulary </dc:title>
</cp:coreProperties>
</file>