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AB2-FD3C-4F88-A8FE-811557B4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268-95E2-465D-AB70-1FD9FB2B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F4F-63FB-4635-B807-B1F50319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6E4-A732-4FCF-BE9C-1B3C2DBD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661B1-FE7C-4F1B-B706-6B4D49A0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EF041-E8FE-4DBB-B80D-97BA1D45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44E6E-0BA3-4B8A-A4D5-DDBE7AE7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E682C-623F-41C4-9A6E-B31FCFC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ED25E-BFAD-4BA8-9DB9-E8573D67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B7316-35CA-45B2-AA5E-9CE8A198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D11E4-9BE6-4AAE-AF93-01C88D10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CD7-FACF-4727-AB5B-802A8FD2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01E35-F0C6-4D0B-A395-CDE73CD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F30F8-E276-418B-AAC8-BD54786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D0D96-F5AE-4769-80E0-DF2A8170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F3709-C09B-4A90-AB58-CC8BEBC0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B2906-ACDA-420E-A450-AD83FA64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601-2584-4412-B83B-88214530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16A-23AE-4CBB-925E-A1D39E02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731-0C20-4B46-8138-63DB3463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62E-00E6-4EAE-A88C-5C7F7743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9BE-91EF-49A3-A91B-BD6C9FF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B7B-CF5D-4E84-BDC7-C208A2A0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E4F-2EE6-4562-9F58-37B94D9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68B0-D7B7-4FF2-972F-01368A80C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1268-A09C-42FD-87B6-A542695055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Vocabulary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Unit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ar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ali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lliance, league, federation, com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various community organizations form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al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lobby against parking law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, decay, or deterioration; a condition or period of decline or decay; excessive self-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cadenc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733560" cy="3525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Image Copyright 2006 James Wakefield - All Rights Reserved"/>
          <p:cNvPicPr/>
          <p:nvPr/>
        </p:nvPicPr>
        <p:blipFill>
          <a:blip r:embed="rId2"/>
          <a:stretch/>
        </p:blipFill>
        <p:spPr>
          <a:xfrm>
            <a:off x="228600" y="2362320"/>
            <a:ext cx="4591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degeneration,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ome characterized her love of chocolate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ad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she ate at least two candy bars a d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ici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raw forth, bring out from some source (such as another pers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cc"/>
                </a:solidFill>
                <a:latin typeface="Arial"/>
              </a:rPr>
              <a:t>Elicit</a:t>
            </a: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:</a:t>
            </a:r>
            <a:br>
              <a:rPr sz="60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657600" cy="4152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c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 call forth, evoke, extract, e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tence:  My attemp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ic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 over the phone was met with a barrage of irrelevant record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empt to dissuade someone from some course or decision by earnest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ostulat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360" y="2286000"/>
            <a:ext cx="3489480" cy="419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rob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ostu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u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kne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ali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a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cadenc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nu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ici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ce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rotest, remonstrate, com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akespeare’s Hamlet finds it useles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ostul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mother for siding with his stepfa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so often as to lack freshness or origi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ackneyed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51324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3400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banal, trite, commonplace, cor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Great Gatsby tells a universal story without being ruin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ackney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se and descrip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p, opening, break (in the sense of having an element missing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iatu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 was awakened not by a sudden sound but by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n of traffi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nt, indirect suggestion, or reference (often in a derogatory sense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nuend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35360" y="2438280"/>
            <a:ext cx="4203720" cy="4419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43434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sinuation, in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ose lacking the facts or afraid of reprisals often tarnish an enemy’s reputation by u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uen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ression of approval or favorable opinion, praise; official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lead on behalf of someone else; to serve as a third party or go-between in a disagre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terced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114800" cy="43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tervene, med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e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ce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spute between the two children, and soon they will be playing happily agai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pproba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4004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mmendation, sa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y broad hint that I had paid for the lessons myself brought smile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prob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all the judges at the piano recit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easier or milder, relieve; to quiet, calm; to put an end to, appease, satisfy, qu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uage: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00440" y="1905120"/>
            <a:ext cx="4543560" cy="39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Mother and Baby Feeding"/>
          <p:cNvPicPr/>
          <p:nvPr/>
        </p:nvPicPr>
        <p:blipFill>
          <a:blip r:embed="rId2"/>
          <a:stretch/>
        </p:blipFill>
        <p:spPr>
          <a:xfrm>
            <a:off x="533520" y="1905120"/>
            <a:ext cx="370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itigate, alleviate, slake, al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Her eyes told me that more than a few well-chose words would be need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u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hurt feel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, union, or merger for some specific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2:25:05Z</dcterms:created>
  <dc:creator>NPSD</dc:creator>
  <dc:description/>
  <dc:language>en-US</dc:language>
  <cp:lastModifiedBy>NPSD</cp:lastModifiedBy>
  <dcterms:modified xsi:type="dcterms:W3CDTF">2009-02-06T16:36:33Z</dcterms:modified>
  <cp:revision>5</cp:revision>
  <dc:subject/>
  <dc:title>Level F Vocabulary </dc:title>
</cp:coreProperties>
</file>