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FAB-CC78-4AAB-ACA6-43D20ABB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1FB-D3F1-45A0-A506-378ECEDA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375-2F8C-4A6A-9ADA-4237632C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295-A742-465D-8AE6-6D575788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D68-957B-440D-B9B2-14B35F33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20C-5F90-42DB-9258-E1C73980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BE0-B2E4-4100-9CD3-E9ED4170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A24-B65C-4372-BB03-11D53A6F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6A8-D270-4A1B-A5D3-DD44893D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48D-D198-43DD-88B7-BC35DA0D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E26-8376-46D0-85ED-1E544967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CE8-368E-494B-8BE1-2F2EF018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328A-8928-4D14-B9D5-B7FAF02B0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Vocabula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Level 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Unit 2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art 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24680" y="-3069720"/>
            <a:ext cx="152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n some days I am overcome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lassitud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 the thought of so many more years of schoo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232416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Millenn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n.) a period of one thousand years; a period of great j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chiliad, golden age, prosperity,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1160" y="-1592280"/>
            <a:ext cx="609480" cy="813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1999 an argument raged over whether 2000 or 2001would mark the beginning of the ne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millenn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14800" y="1981080"/>
            <a:ext cx="307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Occul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(adj.) mysterious, magical, supernatural; secret, hidden from view; no detectable by ordinary means; (v.) to hide, conceal; eclipse; (n.) matters involving the super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ynonyms: supernatural, esoteric, abstruse, arc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43240" y="1371240"/>
            <a:ext cx="106668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ne need not rely 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occult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knowledge to grasp why things disappear in a house where two cats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uch of his talk ab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occult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ems grounded in nothing but trick photography and folkl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07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erme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59056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v.) to spread through, penetrate, soak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00800" y="-2460600"/>
            <a:ext cx="457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ra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ermeated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all of my clothing and reduced the map in my pocket to a pulpy m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43718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recipit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v.) to fall as moisture; to cause or bring about suddenly; to hurl down from a great height; to give distinct form to; (adj.) characterized by excessive haste; (n.) moisture; the product of an action o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provoke, produce, reckless, impet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53080" y="-1165320"/>
            <a:ext cx="53352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cholars often disagree over which event or events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 historic mo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 admit that my outburst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o many eggs in this particular pudding will leave a mess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in the baking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286160" y="1676520"/>
            <a:ext cx="417204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String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adj.) strict, severe; rigorously or urgently binding or compelling; sharp or bitter to the t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ynonyms: stern, rigorous, tough, urgent, impe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lop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in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veig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ssitu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llenniu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cc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mea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cipi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inge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rmi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43240" y="1842840"/>
            <a:ext cx="2057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ome argue that mo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tringent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aws against speeding will make our streets sa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4956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Surmi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v.) to think or believe without certain supporting evidence; to conjecture or guess; (n.) likely idea that lacks definit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infer, gather, inference, pre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5520" y="662760"/>
            <a:ext cx="83844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 cannot be sure, but 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urmis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at she would not accept my apology even if I made it on my kn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police had no proof, nothing to go on but a suspicion, a me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urmis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41972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terlop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n.) one who moves in where he or she is not wanted or has no right to be, an intru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trespasser, meddler, buttin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72400" y="-2612520"/>
            <a:ext cx="3808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crowd was so eager to see the band perform that they resented the opening singer as an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terlo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4419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trins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adj.) belonging to someone or something by its very nature, essential, inherent; originating in a bodily organ or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ynonyms: orga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4520" y="-326088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had been my father’s favorite book when he was my age, but for me it held littl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trinsic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18200" y="1981080"/>
            <a:ext cx="266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vei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v.) to make a violent attack in words, express strong disappr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rail, harangue, fulminate, remons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00640" y="-356508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ou should no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veigh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gainst the plan with quite so much vigor until you have rea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4876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Lassitu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n.) weariness of body or mind, lack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fatigue, lethargy, torpor, langu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0:06:38Z</dcterms:created>
  <dc:creator>Stephen C. Smith</dc:creator>
  <dc:description/>
  <dc:language>en-US</dc:language>
  <cp:lastModifiedBy>Nancy</cp:lastModifiedBy>
  <dcterms:modified xsi:type="dcterms:W3CDTF">2008-12-28T22:52:48Z</dcterms:modified>
  <cp:revision>3</cp:revision>
  <dc:subject/>
  <dc:title>Vocabulary Level F Unit 2-B</dc:title>
</cp:coreProperties>
</file>