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8D60-EC0D-434D-9037-3298C360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AA73-D5AD-4695-BC95-DE4F795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EA52-958F-4B94-B64C-DBD400DD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AF48-5B3C-4A41-9AE8-AB4A61FA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DB1B-91DB-4D2F-8146-49802B49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C5A3-64BA-446A-BEA9-F0ED6A59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F06C-2279-4497-AD0F-6CF51ED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B2D2-08E9-4AFB-8A14-D633A095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25E7-89C3-4AB4-959B-E10E29D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FA4-BBE6-47FF-8169-F5AECFC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5C32-3678-49CC-8E16-E46DEEB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D154-A9B3-4299-8BDE-9B2D3E5B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616-B8DF-446C-8317-8C2C525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9D1-7793-4BEB-B185-CFC311B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E09-4C3F-4E6C-BADF-3831A84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7788-268A-45B6-B0D4-E80CAF52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C54-B52D-4822-BC5D-4DD3877E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1DF2-C6E2-415C-9F67-8271D782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EB75-78C3-48A6-A242-47A77B21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DE28-BB73-4D34-81D3-B76DB529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80F7-B6A5-4107-B8C7-EB8C517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E9F3-0F42-4EE7-956C-A4B3BBC0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4DAE-3D03-4EF3-9C27-E8829ED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D40A-0DE8-488F-94C4-721F519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816-56B0-4F54-B479-0B3E2761A6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1554-7F79-4501-B321-EEC462DAB8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tfpontchartrain.org/files/5268Stop_Sign_small.jpg&amp;imgrefurl=http://www.jtfpontchartrain.org/index.php%3FcID%3D310&amp;h=494&amp;w=660&amp;sz=37&amp;hl=en&amp;start=12&amp;tbnid=e6F_Zd-ZqBJwTM:&amp;tbnh=103&amp;tbnw=138&amp;prev=/images%3Fq%3Da%2Bstop%2Bsign%26gbv%3D2%26svnum%3D10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tter-horsetack.com/lj/images/fig22Asmall.gif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05.ibm.com/employment/uk/hursleycommunity/bluefusion/images/2006_Virus_attack_F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ic.howstuffworks.com/gif/camera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ites.uiuc.edu/edtech/teaching_showcase/articles/baird/newsletter_2_05/images/gump_n_lenno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evel F unit 5 vocabulary part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cast, trump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See full size image"/>
          <p:cNvPicPr/>
          <p:nvPr/>
        </p:nvPicPr>
        <p:blipFill>
          <a:blip r:embed="rId1"/>
          <a:stretch/>
        </p:blipFill>
        <p:spPr>
          <a:xfrm>
            <a:off x="2971800" y="2209680"/>
            <a:ext cx="4157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Cave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ning or caution to prevent misunderstanding or discourage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well known Latin phrase “ caveat emptor” means “let the buyer bewar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onition,  word to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124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243828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quitabl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, just embodying principles o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He did more work, so a sixty-forty split of the profits seemed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quita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, reasonable, even han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76520" y="229248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Extricate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free from entanglements or difficulties; to move with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 ring must have slid off my finger as I was trying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ic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fish from the 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ntangle, extract, dis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2200320" cy="2590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284796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il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teal, especially in a sneaky way and in petty amou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f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l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nnies from the cash drawer, you are unlikely after awhile to be satisfied with only penn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lfer, purloin, swi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933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lou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ock, treat with contem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She chose to ignore my advice, not because she want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 belief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nest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qui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tonom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tric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xiomat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l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laz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lou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vea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acti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ff at, sneer at, snicker at, sc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2346480"/>
            <a:ext cx="5257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Fractio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ding to be troublesome; unruly, quarrelsome, contrary; unpredic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It seems as if the smoothest running organizations contain one or tw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act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op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ynonym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ory, recalcitrant, peev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266688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380988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mnes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eneral pardon for an offense against government; any act of forgiveness or ab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Many politicians were freed unde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mnes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ed by the new regi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ct of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7680" cy="40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utonom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government, political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Even after the thirteen colonies gained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utono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England, many Americans clung to English tra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5639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Axiomatic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evident, expressing a universally accepted principle or ru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One should not accept the idea that the camera never lies a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xioma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nony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for gr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047760" cy="23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590920"/>
            <a:ext cx="37335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Blaz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orn or embellish; to display conspicuously; to publish or proclaim wid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. The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z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results of the election across the internet and every television set in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7:56:04Z</dcterms:created>
  <dc:creator>NPSD</dc:creator>
  <dc:description/>
  <dc:language>en-US</dc:language>
  <cp:lastModifiedBy>Nancy</cp:lastModifiedBy>
  <dcterms:modified xsi:type="dcterms:W3CDTF">2008-12-28T22:38:59Z</dcterms:modified>
  <cp:revision>8</cp:revision>
  <dc:subject/>
  <dc:title>Level F unit 5 vocabulary part A</dc:title>
</cp:coreProperties>
</file>