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5EFC-498C-4B6B-BE3F-A755AA05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5B06-2C38-4BDE-9659-D6FCDA91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2E19-480B-4354-8CA6-B8134324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34B8-175A-40C0-9930-3C6DA561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06C1-4FB8-46A4-B05E-2FCFDEB5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0E37-ACE8-454D-878B-EDA19600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D0E3-BEE4-4C2F-98CD-DE740A59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E987-CE7A-4B5A-A1C5-75681BB3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D138-4A27-4A1B-9255-16DF1053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0848-EF31-4679-BC61-2787AEA7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1841-0591-475B-9C7A-F2F55B25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53F8-7279-4D0F-A312-015CD98A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35F1-E762-43E1-ACF5-E20BEF22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4CC9-92E6-49D2-9FCB-014608EB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A2C8-A159-4F71-950A-542E5AD2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84EA-0581-495B-9F67-7F08E5A7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2BA3-1524-4A4E-AA7F-EBA7FD9B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90BEB-96B3-4565-86B5-3A1D27C7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13CB-5E48-4B49-994A-2A894EFD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549C-A0B1-4BB1-838E-75C05903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0618-4416-41BD-95FA-D1B3A743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492F-3C44-40B8-AD7E-FB276D2F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539C-B10D-4B62-83AF-89A6A0D2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BED9-9974-4D79-BC16-A5D2D88C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80DF-5E16-4DA2-A77D-04496885962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2941-436F-4005-A809-8928EAE7DC1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tfpontchartrain.org/files/5268Stop_Sign_small.jpg&amp;imgrefurl=http://www.jtfpontchartrain.org/index.php%3FcID%3D310&amp;h=494&amp;w=660&amp;sz=37&amp;hl=en&amp;start=12&amp;tbnid=e6F_Zd-ZqBJwTM:&amp;tbnh=103&amp;tbnw=138&amp;prev=/images%3Fq%3Da%2Bstop%2Bsign%26gbv%3D2%26svnum%3D10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etter-horsetack.com/lj/images/fig22Asmall.gif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-05.ibm.com/employment/uk/hursleycommunity/bluefusion/images/2006_Virus_attack_F.gif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tic.howstuffworks.com/gif/camera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cites.uiuc.edu/edtech/teaching_showcase/articles/baird/newsletter_2_05/images/gump_n_lennon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evel F unit 5 vocabulary part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adcast, trump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See full size image"/>
          <p:cNvPicPr/>
          <p:nvPr/>
        </p:nvPicPr>
        <p:blipFill>
          <a:blip r:embed="rId1"/>
          <a:stretch/>
        </p:blipFill>
        <p:spPr>
          <a:xfrm>
            <a:off x="2971800" y="2209680"/>
            <a:ext cx="4157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Cave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rning or caution to prevent misunderstanding or discourage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 well known Latin phrase “ caveat emptor” means “let the buyer beware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monition,  word to the w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124080"/>
            <a:ext cx="2971800" cy="221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495680" y="243828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Equitabl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, just embodying principles of jus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He did more work, so a sixty-forty split of the profits seem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quitab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rang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, reasonable, even han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76520" y="2292480"/>
            <a:ext cx="32004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Extricat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free from entanglements or difficulties; to move with eff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 ring must have slid off my finger as I was trying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tric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fish from the 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entangle, extract, diseng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590920"/>
            <a:ext cx="2200320" cy="2590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2847960" cy="23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ilc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teal, especially in a sneaky way and in petty amou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If 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l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nnies from the cash drawer, you are unlikely after awhile to be satisfied with only penn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lfer, purloin, swi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9336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lou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ock, treat with contem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She chose to ignore my advice, not because she want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lo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y belief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mnest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qui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utonom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tric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xiomati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l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laz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lou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vea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ractio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ff at, sneer at, snicker at, sco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2346480"/>
            <a:ext cx="52578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ractio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ding to be troublesome; unruly, quarrelsome, contrary; unpredic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It seems as if the smoothest running organizations contain one or tw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acti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op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ynonym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actory, recalcitrant, peev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895480"/>
            <a:ext cx="2666880" cy="2440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380988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mnes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eneral pardon for an offense against government; any act of forgiveness or ab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Many politicians were freed under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mnes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nted by the new regi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ct of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857680" cy="40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ut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government, political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Even after the thirteen colonies gained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utonom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England, many Americans clung to English tradi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56392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xiomatic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evident, expressing a universally accepted principle or r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One should not accept the idea that the camera never lies as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xioma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r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for gra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590920"/>
            <a:ext cx="3047760" cy="23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590920"/>
            <a:ext cx="373356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Blaz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dorn or embellish; to display conspicuously; to publish or proclaim wid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y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laz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results of the election across the internet and every television set in 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7:56:04Z</dcterms:created>
  <dc:creator>NPSD</dc:creator>
  <dc:description/>
  <dc:language>en-US</dc:language>
  <cp:lastModifiedBy>Nancy</cp:lastModifiedBy>
  <dcterms:modified xsi:type="dcterms:W3CDTF">2008-12-28T22:38:59Z</dcterms:modified>
  <cp:revision>8</cp:revision>
  <dc:subject/>
  <dc:title>Level F unit 5 vocabulary part A</dc:title>
</cp:coreProperties>
</file>