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0286A-0473-4C83-B121-F94430EF3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CEED4-9442-44F4-A002-072C1E21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25934-0EC4-4E0F-A19F-CCEA9F330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AD23C-A92B-4EFA-96E7-6ED766B30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D749-C262-4D38-9563-F20C56335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29FA-F08A-4527-AD8D-68F924EF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3ABB-86E5-4867-A8F9-A01D6CDC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FC76-6942-4FF7-98F7-EDBA25CE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BF29-F39F-4749-9E71-C40B23ED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4CB9-F19D-460C-B058-7D361E89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803D-9F0C-481C-B7AD-87C9214F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4B11C-49CD-48FD-AF0D-09CA79AA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1CAD-DCFD-4D47-84EF-695CEBCA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063B-BD62-432D-9397-2659BEFA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92F9-75A9-4089-9541-6F9F9A59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93FC-7B26-412E-AD14-872EA66A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12D6-E21E-4CBC-8283-9415194D3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9AC78-AD0D-432C-8412-0AB28BB9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4AE90-5A58-4A58-B608-1433330A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1C506-ACA4-40A8-BBFB-FE28E3C2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0D936-9287-4676-89A3-7250EDAB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26167-757A-4131-A7B1-E28F7471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7DE7E-40A3-4EA6-8916-F1EFC2C1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876BB-2096-4A7A-BCF8-5042D580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67DA-825F-49B2-9D75-465DEE507EA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B472-D10D-429A-9647-3E673A95DAA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jtfpontchartrain.org/files/5268Stop_Sign_small.jpg&amp;imgrefurl=http://www.jtfpontchartrain.org/index.php%3FcID%3D310&amp;h=494&amp;w=660&amp;sz=37&amp;hl=en&amp;start=12&amp;tbnid=e6F_Zd-ZqBJwTM:&amp;tbnh=103&amp;tbnw=138&amp;prev=/images%3Fq%3Da%2Bstop%2Bsign%26gbv%3D2%26svnum%3D10%26hl%3Den%26safe%3Dactive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better-horsetack.com/lj/images/fig22Asmall.gif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-05.ibm.com/employment/uk/hursleycommunity/bluefusion/images/2006_Virus_attack_F.gif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tatic.howstuffworks.com/gif/camera1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cites.uiuc.edu/edtech/teaching_showcase/articles/baird/newsletter_2_05/images/gump_n_lennon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Level F unit 5 vocabulary part A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oadcast, trump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See full size image"/>
          <p:cNvPicPr/>
          <p:nvPr/>
        </p:nvPicPr>
        <p:blipFill>
          <a:blip r:embed="rId1"/>
          <a:stretch/>
        </p:blipFill>
        <p:spPr>
          <a:xfrm>
            <a:off x="2971800" y="2209680"/>
            <a:ext cx="415764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Cave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warning or caution to prevent misunderstanding or discourage behavi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The well known Latin phrase “ caveat emptor” means “let the buyer beware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monition,  word to the wi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3124080"/>
            <a:ext cx="2971800" cy="2217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495680" y="2438280"/>
            <a:ext cx="285768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Equitable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ir, just embodying principles of just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He did more work, so a sixty-forty split of the profits seemed 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quitabl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rangement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ght, reasonable, even hand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76520" y="2292480"/>
            <a:ext cx="3200400" cy="246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Extricate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free from entanglements or difficulties; to move with effor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The ring must have slid off my finger as I was trying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xtrica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fish from the n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entangle, extract, diseng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2590920"/>
            <a:ext cx="2200320" cy="2590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4495680" y="2743200"/>
            <a:ext cx="2847960" cy="23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Filch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steal, especially in a sneaky way and in petty amount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If you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ilc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ennies from the cash drawer, you are unlikely after awhile to be satisfied with only penn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lfer, purloin, swip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2933640" cy="26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Flou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mock, treat with contemp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She chose to ignore my advice, not because she wanted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lou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y belief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mnesty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quitab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utonomy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tricat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xiomatic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ilc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lazon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lou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aveat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ractiou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off at, sneer at, snicker at, scor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981080" y="2346480"/>
            <a:ext cx="5257800" cy="37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Fractiou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ding to be troublesome; unruly, quarrelsome, contrary; unpredicta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It seems as if the smoothest running organizations contain one or tw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ractio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eople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Synonyms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fractory, recalcitrant, peev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895480"/>
            <a:ext cx="2666880" cy="2440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4343400" y="2514600"/>
            <a:ext cx="3809880" cy="31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Amnest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general pardon for an offense against government; any act of forgiveness or absol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Many politicians were freed under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mnes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ranted by the new regim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act of forgive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2857680" cy="407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Autonom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f-government, political contr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Even after the thirteen colonies gained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utonom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rom England, many Americans clung to English tradi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e r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2563920" cy="49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Axiomatic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f-evident, expressing a universally accepted principle or ru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One should not accept the idea that the camera never lies as 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xiomat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ru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en for gran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2590920"/>
            <a:ext cx="3047760" cy="2340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19720" y="2590920"/>
            <a:ext cx="3733560" cy="289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Blaz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adorn or embellish; to display conspicuously; to publish or proclaim wide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They wil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laz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results of the election across the internet and every television set in 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7:56:04Z</dcterms:created>
  <dc:creator>NPSD</dc:creator>
  <dc:description/>
  <dc:language>en-US</dc:language>
  <cp:lastModifiedBy>Nancy</cp:lastModifiedBy>
  <dcterms:modified xsi:type="dcterms:W3CDTF">2008-12-28T22:38:59Z</dcterms:modified>
  <cp:revision>8</cp:revision>
  <dc:subject/>
  <dc:title>Level F unit 5 vocabulary part A</dc:title>
</cp:coreProperties>
</file>