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8DCBA-F45D-451F-8D2A-917DC06C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77D4A-307D-4C51-AD59-3224D7D2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E506F-BD80-4F16-8602-26B94C78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93D37-D26B-44B0-B5D4-2553FEAC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11B4-7B29-4D2E-B8A2-0B9CDFDEC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818C-34CB-4687-9A84-0E0A8B7C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FA85-79C9-47CD-A443-6F010471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7753-F4B4-43F8-98D2-F64D65B4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D2AF-7866-4D57-BD3B-12913A9B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7C45-57FB-474A-8B24-B0AE0DAA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32A3-DFB2-4CD2-B427-773D93DC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983CE-1AA4-445A-9AA3-D3D2E277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87A0-2FBB-45FD-942A-9F85143D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7883-ED14-4875-9A5E-30983299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CBC2-54B8-4B45-AF38-5E611F6E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DF13-8D5C-4D95-8EBB-85050D68E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7205-669A-444E-9B6A-1EDC7438E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D3727-38B3-4221-9FD0-D50EE0BF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7EA1F-E541-4059-ABEF-38ED9156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219C7-8B9D-47A4-B5FA-10CC7C5E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79274-2DD3-4341-9F74-1D996542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811B3-C481-4363-BBE9-4F8F1201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F0965-422A-4E61-84DB-2F041322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C1D8B-5479-450C-93B1-CF14134E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EBCB-A374-43DA-9B01-25B10824967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F8AB-3352-4FFF-A014-456AF13A3A1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tfpontchartrain.org/files/5268Stop_Sign_small.jpg&amp;imgrefurl=http://www.jtfpontchartrain.org/index.php%3FcID%3D310&amp;h=494&amp;w=660&amp;sz=37&amp;hl=en&amp;start=12&amp;tbnid=e6F_Zd-ZqBJwTM:&amp;tbnh=103&amp;tbnw=138&amp;prev=/images%3Fq%3Da%2Bstop%2Bsign%26gbv%3D2%26svnum%3D10%26hl%3Den%26safe%3Dactive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better-horsetack.com/lj/images/fig22Asmall.gif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-05.ibm.com/employment/uk/hursleycommunity/bluefusion/images/2006_Virus_attack_F.gif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tatic.howstuffworks.com/gif/camera1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cites.uiuc.edu/edtech/teaching_showcase/articles/baird/newsletter_2_05/images/gump_n_lennon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Level F unit 5 vocabulary part 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oadcast, trump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See full size image"/>
          <p:cNvPicPr/>
          <p:nvPr/>
        </p:nvPicPr>
        <p:blipFill>
          <a:blip r:embed="rId1"/>
          <a:stretch/>
        </p:blipFill>
        <p:spPr>
          <a:xfrm>
            <a:off x="2971800" y="2209680"/>
            <a:ext cx="415764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Cave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arning or caution to prevent misunderstanding or discourage behavi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The well known Latin phrase “ caveat emptor” means “let the buyer beware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monition,  word to the wi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3124080"/>
            <a:ext cx="2971800" cy="2217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495680" y="2438280"/>
            <a:ext cx="285768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Equitable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r, just embodying principles of just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He did more work, so a sixty-forty split of the profits seemed 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quitabl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rangement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ght, reasonable, even hand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76520" y="2292480"/>
            <a:ext cx="3200400" cy="24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Extricate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free from entanglements or difficulties; to move with effor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The ring must have slid off my finger as I was trying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xtric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fish from the n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entangle, extract, diseng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2590920"/>
            <a:ext cx="2200320" cy="2590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495680" y="2743200"/>
            <a:ext cx="2847960" cy="23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Filch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steal, especially in a sneaky way and in petty amount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If you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ilc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ennies from the cash drawer, you are unlikely after awhile to be satisfied with only penn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lfer, purloin, swip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2933640" cy="26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Flou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mock, treat with contemp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She chose to ignore my advice, not because she wanted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lou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y belief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mnest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quitab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utonom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trica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xiomatic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ilc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lazon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lou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avea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ractiou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off at, sneer at, snicker at, scor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981080" y="2346480"/>
            <a:ext cx="5257800" cy="37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Fractiou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ding to be troublesome; unruly, quarrelsome, contrary; unpredicta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It seems as if the smoothest running organizations contain one or tw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ractio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eople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Synonyms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ractory, recalcitrant, peev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895480"/>
            <a:ext cx="2666880" cy="2440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4343400" y="2514600"/>
            <a:ext cx="3809880" cy="31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Amnest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general pardon for an offense against government; any act of forgiveness or absol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Many politicians were freed under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mnes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ranted by the new regim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act of forgive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2857680" cy="40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Autonom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f-government, political 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Even after the thirteen colonies gained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utonom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rom England, many Americans clung to English tradi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 r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2563920" cy="49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Axiomatic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f-evident, expressing a universally accepted principle or ru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One should not accept the idea that the camera never lies as 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xiomat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ru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n for gran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590920"/>
            <a:ext cx="3047760" cy="2340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2590920"/>
            <a:ext cx="3733560" cy="289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Blaz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adorn or embellish; to display conspicuously; to publish or proclaim wide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They wil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laz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results of the election across the internet and every television set in 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7:56:04Z</dcterms:created>
  <dc:creator>NPSD</dc:creator>
  <dc:description/>
  <dc:language>en-US</dc:language>
  <cp:lastModifiedBy>Nancy</cp:lastModifiedBy>
  <dcterms:modified xsi:type="dcterms:W3CDTF">2008-12-28T22:38:59Z</dcterms:modified>
  <cp:revision>8</cp:revision>
  <dc:subject/>
  <dc:title>Level F unit 5 vocabulary part A</dc:title>
</cp:coreProperties>
</file>