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wmf" ContentType="image/x-wmf"/>
  <Override PartName="/ppt/media/image4.jpeg" ContentType="image/jpeg"/>
  <Override PartName="/ppt/media/image8.gif" ContentType="image/gif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D4DA-715F-4E80-AA0F-FCBA98E10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5A12-A6F0-450F-8A34-870CBEB5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493E-CF63-46DA-9A91-97566F9CD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4F0F-151F-4168-95A3-3D8B395D2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C0BD-B5AA-4CC3-AC7F-CD85BD7C2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9F80-EF5F-4817-8C75-2EEB9BAA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C9D1-E5AF-48B8-9FEF-2EB6417B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3F9E-03C5-4ECB-8930-C0653C69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4B37-8973-4A54-93D3-E51E8DE2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526B-596C-4BE6-823C-38150060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16C1E-2631-4E40-A623-AB3D2ACC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CF1A-3FE8-45C6-8212-7B5E66C5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3BCA-E71F-4273-8FA8-09C6BF88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E366-5E09-4C5D-A3F1-2F43207D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8675-054E-4605-A6D6-B2C382FA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7063-8DCD-4D9F-8935-8EA899189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415D-4FDC-47E0-A697-12CDB3EC4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9832-4A4E-4268-833F-5F1CB1D3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2D92-A9FE-467C-9810-B19A0C4A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D07A-1EAA-4BD0-ACEF-287E5EA5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15BF-977B-470E-A59C-FF4C65D8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BDA3-E31F-4FD9-B7C6-B88D967D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DC80-C010-4A4F-A117-0B574120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B6AB-3996-4D4B-AF0D-8C111D8E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E76E9-AF78-4E68-B9F6-1A28380FE6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7C45-9A13-4156-A7CA-75E4D4BEBD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Vocabulary Level F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 Unit 7 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 Part B</a:t>
            </a:r>
            <a:br>
              <a:rPr sz="4800"/>
            </a:b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514600" y="2209680"/>
            <a:ext cx="464832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unctiliou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y careful and exact, attentive to fine points of etiquette or proprie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precise, scrupulous, exacting, fussy, finic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lerk was s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unctilio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obeying court rules that I had to be very careful to sign the papers accurate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unctiliou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59436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doubtab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piring fear of awe; illustrations, emin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formidable, fearsome, awesome, augu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a fierce ruler he w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doubtable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t like all such rulers, not much lo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doubtab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5181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prov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find fault with, scold, rebu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chide, chastise, upbraid, re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prov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er staff for not following orde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prov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743200" y="2209680"/>
            <a:ext cx="36100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stitu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ct of restoring someone or something to the rightful owner or to a former state or position; making good on a loss or da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compensation, reimbursement, redress, rest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ma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stitu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the damage to the car but never fully regained the friendship of its own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stitu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048120" y="2133720"/>
            <a:ext cx="29718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talwar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 and sturdy, brave, resolute, (v) a brave, strong person; a strong supporter; one who takes an uncompromising 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sturdy, stout, intrepid, vali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became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talwar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the basketball team as their statisticia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fraction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doubt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itigat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pro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illag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stit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at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talwa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unctiliou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ulnerabl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talwar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erman is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talwa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ero to all of the citizens of the c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8862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ulnerab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to attack, capable of being wounded or damaged; unprot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Defenseless, exposed, unguar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se brave enough to have opposed the dictator’s rise now found themselves in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vulnerab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osition when he gained pow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ulnerab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533412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frac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reaking of a law or oblig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violation, transgression, breach, offe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uncle paid a fine for h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fra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the local recycling regul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frac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359568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itiga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make milder or softer, to moderate in force or inten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lessen, relieve, alleviate, dimini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had hoped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itig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er anger by offering an apolog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itigate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pefully, burping a baby wil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itig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ts crying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048120" y="2819520"/>
            <a:ext cx="30891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illag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rob of goods by open force (as in war), plunder; (n) the act of looting; boo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Ravage, sack, loot, boo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mmanding officer warned his troops not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illag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conquered c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illag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2522520" cy="3025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600200" y="2362320"/>
            <a:ext cx="2762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alk a great deal in a foolish or aimless fash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chatter, prattle, blab, blabber, pala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oul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ndlessly about the past but say nothing useful about our present dilem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4T18:37:50Z</dcterms:created>
  <dc:creator>NPSD</dc:creator>
  <dc:description/>
  <dc:language>en-US</dc:language>
  <cp:lastModifiedBy>Nancy</cp:lastModifiedBy>
  <dcterms:modified xsi:type="dcterms:W3CDTF">2008-12-13T22:42:04Z</dcterms:modified>
  <cp:revision>12</cp:revision>
  <dc:subject/>
  <dc:title>Vocabulary Level F  Unit 7 Part B </dc:title>
</cp:coreProperties>
</file>