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9EB-4E38-4364-8678-1E678B42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94E-1F30-4A6D-BB4F-B42B8AEA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D18-5F53-4C52-B0E9-E007DB7B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2EA-B0FD-45D0-8332-A5DE8535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F93D-EF87-4C69-8257-943760AA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AA89-D124-4E7E-98DB-B0D9EB47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8512-A14C-409D-A811-D94D0A4E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4971-D081-4CCB-A4F6-E2D65247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1BCA-80C8-4516-9BF7-CA9FFB59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053D-25B2-4CB4-B117-824A8076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F243-4E47-4EBC-9CB8-B92C63BF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847-6284-4B9C-8DF7-4957A504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2BE9-75FB-4CEB-8F5D-CCD3E371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D1A9-90F7-422A-A849-27C0C458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2EE5-A094-4A2E-B853-50950136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948C-AF63-4028-A59D-CA237909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2A5C-C09F-4079-A593-A611174C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576-9124-4DC9-BCAE-108BCA10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A2F-0CF5-4FA3-8509-3CCC3FF1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9E2-96CD-4E03-859C-C5EB9795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60A-BDCF-426B-9149-5531C9F4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8EB-9208-4E8E-BA43-D86979AF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091-C16A-41C1-8540-6344894A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7FC-956B-4477-BDCC-B5D9082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8C19-2D33-4169-80AA-60478D99C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69CE-3FF0-4D20-9817-21C434BF9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Vocabulary Level F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Unit 7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Part B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648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careful and exact, attentive to fine points of etiquette or propri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precise, scrupulous, exacting, fussy, finic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erk was s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nctili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obeying court rules that I had to be very careful to sign the papers accu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ing fear of awe; illustrations, emi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formidable, fearsome, awesome, aug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fierce ruler 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oubtabl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like all such rulers, not much l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 fault with, scold, rebu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ide, chastise, upbraid, re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prov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staff for not following ord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10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ct of restoring someone or something to the rightful owner or to a former state or position; making good on a loss or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ompensation, reimbursement, redress, rest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tit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damage to the car but never fully regained the friendship of its own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nd sturdy, brave, resolute, (v) a brave, strong person; a strong supporter; one who takes an uncompromising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sturdy, stout, intrepid, va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becam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basketball team as their statistici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frac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doub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tig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r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ll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tit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lw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nctili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ulne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man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o to all of the citizens of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attack, capable of being wounded or damaged; un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Defenseless, exposed, ungu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brave enough to have opposed the dictator’s rise now found themselves 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on when he gained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341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eaking of a law or obl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violation, transgression, breach, of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uncle paid a fine for h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r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local recycling regul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5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milder or softer, to moderate in force or int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lessen, relieve, alleviate, dimin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d hop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anger by offering an apolog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fully, burping a bab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s cry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089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b of goods by open force (as in war), plunder; (n) the act of looting;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Ravage, sack, loot,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anding officer warned his troops no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ll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nquered 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522520" cy="302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00200" y="2362320"/>
            <a:ext cx="2762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alk a great deal in a foolish or aimless fash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atter, prattle, blab, blabber, pal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dlessly about the past but say nothing useful about our present dilem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37:50Z</dcterms:created>
  <dc:creator>NPSD</dc:creator>
  <dc:description/>
  <dc:language>en-US</dc:language>
  <cp:lastModifiedBy>Nancy</cp:lastModifiedBy>
  <dcterms:modified xsi:type="dcterms:W3CDTF">2008-12-13T22:42:04Z</dcterms:modified>
  <cp:revision>12</cp:revision>
  <dc:subject/>
  <dc:title>Vocabulary Level F  Unit 7 Part B </dc:title>
</cp:coreProperties>
</file>