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FE1-D02B-4056-894A-B0BD2734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465-D1D5-42A6-8ED9-C1815814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0B4-26FC-49C9-87FB-7DC8D619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CE3-E315-4EC9-9C2B-7447FB5D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FF9B-8407-41B2-A511-E13D6393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B9F2-4AAD-4469-B93C-01FE8323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79D5-CDB4-4865-B26C-F6B6822A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5E08-1D01-4045-9409-D73F7AAB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AC29-7F8B-4284-A909-3D3AE48E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29AA-244A-49BB-9B21-85233B3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FBBE-9388-43FC-A587-1F3D0B0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635-F590-4251-B9D6-E55A209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0F8E-A5A0-44D7-916B-E6845D6D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DAB1-679B-4CB6-84D9-CBEA523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83BA-5DA3-47C6-B4E1-8468F7DA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E1AA-46A3-4BCA-841D-A07B9A3B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9DC6-278F-4111-971F-298DB3D4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6C7-5CEC-4FFF-9F48-801DDC2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D68-7C0E-4670-9989-6F229C7A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A96-EF69-4BBA-8CBE-06A382B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ABB-527F-419C-968D-C18E7D3B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B90-1360-479A-AAA6-C4BA768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9B3-FD41-405B-B6BA-7548F07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E6B-3A25-45E1-B2AF-0FE4B58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1CC-02E5-4DCA-A700-437E8E1597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194-6D18-49A0-9A61-C9EF8A859C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ocabulary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vel F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7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t 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rom hung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dav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ppearance, the rescued captives were carried from th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6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co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by combining ingredients, make up (as a d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ise, invent, fab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532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OC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57909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o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avory stew with fresh herbs and vegetables from the gar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6827" r="0" b="0"/>
          <a:stretch/>
        </p:blipFill>
        <p:spPr>
          <a:xfrm>
            <a:off x="4191120" y="3276720"/>
            <a:ext cx="30574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, unfeeling; 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rude, vulgar, tas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533520"/>
            <a:ext cx="54338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A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the positions of our representative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fference to our proble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wer in character, quality,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grade, adul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to deteri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heapen, corrupt, demean, deprec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09480"/>
            <a:ext cx="56008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BA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864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a new rule is introduced in a popular sport, there are fans who say i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t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c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avero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o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nsequent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mit sacrilege upon, treat irrev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minate, pol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09480"/>
            <a:ext cx="6567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SEC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168640"/>
            <a:ext cx="48942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continues for the vandals wh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c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eme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51814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turb the compos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2480" y="762120"/>
            <a:ext cx="62485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SCONC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933640"/>
            <a:ext cx="1862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hop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nc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with an unexpected question, but he was well prepa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ndios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in an impressive or state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by pompous affectation or grandeur, absurdly exagge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685800"/>
            <a:ext cx="60962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DI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cities, I wonder, does an ambitious engineer dream up suc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ndi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4575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consequenti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ing, un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trivial, 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3629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or stern in mann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dornment or luxury, simple, pl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or sour in fl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igno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sequ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, provided that you are sure that they are unimporta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292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thing and conduct of the Puritans expressed their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44193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nefic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ing acts of kindness or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ring benefits,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3049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EFIC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57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m I learned that pu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can require as much hard work as a nine-to-five jo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525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daver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gaunt, resembling a cor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orpselike, wasted, haggard, emaciated, ghas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90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457200"/>
            <a:ext cx="72388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DAVERO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0:39Z</dcterms:created>
  <dc:creator>NPSD</dc:creator>
  <dc:description/>
  <dc:language>en-US</dc:language>
  <cp:lastModifiedBy>NPSD</cp:lastModifiedBy>
  <dcterms:modified xsi:type="dcterms:W3CDTF">2009-07-26T23:09:37Z</dcterms:modified>
  <cp:revision>12</cp:revision>
  <dc:subject/>
  <dc:title>Vocabulary  Level F Unit 7 Part A </dc:title>
</cp:coreProperties>
</file>