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png" ContentType="image/png"/>
  <Override PartName="/ppt/media/image8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FAD52C-6004-4A35-B628-42A03092F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4A5181-4BBC-4A30-9BC8-1B268CAD0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FFABB3-6934-44B7-AE15-C20AE46F4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68B4B6-89ED-493E-BBDB-18D8F7AB4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83106-3773-4B7F-A5B5-D334389F1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E65B9-2C9C-4D74-815D-167967483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39A29-8463-4B76-A1A9-EF5D1885F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580C6-F3D7-486D-B415-E41B95001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5C423-D3AD-4749-BD1E-E0015CC4A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27562-73C8-4C66-B5FE-4D5612665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345EB-C2FA-4025-B2DC-91C6AB41B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2978E4-F5A9-4791-B39F-13414E3EC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1DFD5-D4F9-4622-A59E-3A0154999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85537-B93C-45D5-A300-3101AE419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E9668-3861-45BB-82BE-8BACC63D2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A8543-78D4-4FD2-958D-6F45DD9E5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19BCD-B402-4C76-9BA4-FB632B4F7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9147FC-A8BD-4DFA-9CE8-05722CB19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46F189-8C32-43BB-B4C3-644F11505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1EA136-C9DC-4391-AF96-57AA788DA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97CC24-DB83-4D88-A6E9-10E59A8A4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EA713D-4773-4F4B-9585-B46B66607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70AF9C-D763-49D3-8927-E45C80E7F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ADFEB6-3671-4C8A-B63D-83629B7F6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C0B1F-EA7A-4223-A1F0-5329F7A60CE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7" name="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778BD-08B8-4A64-AFFF-FA98B14A90A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63" name="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Vocabulary Level F</a:t>
            </a:r>
            <a:br>
              <a:rPr sz="4100"/>
            </a:b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Unit 6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Part B</a:t>
            </a:r>
            <a:br>
              <a:rPr sz="4100"/>
            </a:b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2971440" y="4267080"/>
            <a:ext cx="57913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Sentences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orge Washington and his contemporaries were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insurgen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gainst Britai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army was confident that they could crush the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insurgen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forc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5486400" y="2514600"/>
            <a:ext cx="2971800" cy="243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egalomania-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 delusion marked by a feeling of power, wealth, talent, etc., far in excess of rea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nonyms: delusions of grandeu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Sentence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dden fame and admiration can make people feel unworthy-or it can bring on feelings of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megalomani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5486400" y="2133720"/>
            <a:ext cx="2428920" cy="31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inecure-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 position requiring little or no work; an easy j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nonyms: “no show” job, cushy job, “plum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Sentence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office of Vice President of the United States was once considered little more than a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sinecur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257800" y="2362320"/>
            <a:ext cx="2743200" cy="27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urreptitious-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tealthy, secret, intended to escape observation; made or accomplished by frau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nonyms: furtive, covert, clandestine, conceal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Sentence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movie heroine blushed when she noticed the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surreptitiou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glances of her admir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insurgents behave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surreptitious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n order to hide their identit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5486400" y="2286000"/>
            <a:ext cx="2644920" cy="303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Transgress-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o go beyond a limit or boundary; to sin, violate a la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nonyms: overstep, exceed, trespass, er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Sentence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penitent citizens promised to never again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ransg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he laws of the lan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5257800" y="2438280"/>
            <a:ext cx="289548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Transmute-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o change from one nature, substance, or form to an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nonyms: transform, convert, translate, metamorpho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fetter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inecur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heinous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      surreptitio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mmutable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ransgres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nsurgent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ransmut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megalomania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vicarious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Sentence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ransmut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distrust into friendship along that war-torn border will take more than wise politicians and just law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5543640" y="2214720"/>
            <a:ext cx="2857320" cy="36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Vicarious-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Performed, suffered, or otherwise experienced by one person in place of an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nonyms: surrogate, substitute, imagined, secondh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Sentence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search of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vicariou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excitement, we watched movies of action and adventur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7" name="" descr="Indiana Jones reviews"/>
          <p:cNvPicPr/>
          <p:nvPr/>
        </p:nvPicPr>
        <p:blipFill>
          <a:blip r:embed="rId1"/>
          <a:stretch/>
        </p:blipFill>
        <p:spPr>
          <a:xfrm>
            <a:off x="4876920" y="2971800"/>
            <a:ext cx="4038480" cy="26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Fetter-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 chain or shackle placed on the feet (often used in plural) anything that confines or restrains; (v.) to chain or shackle; to render helpless or impot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nonyms: bond, restraint; (v.) bind, hamp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Sentences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old phrase “chain gang” refers to prisoners made to work, each joined to the next by linked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fett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t is said that good inventors do not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fetter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mselves with conventional thinking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019920" y="2286000"/>
            <a:ext cx="2498760" cy="294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Heinous-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Very wicked, offensive, hatefu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nonyms: evil, odious, abominable, outrageo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Sentence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town so peaceful, quiet, and law-abiding was bound to be horrified by so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heinou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 crim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5200560" y="838080"/>
            <a:ext cx="394344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Immutable-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Not subject to change, const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nonyms: unchangeable, unalterable, fixed, invari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Sentence 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cientists labored to discover a set of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immutab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laws of the univers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" descr="Scientists"/>
          <p:cNvPicPr/>
          <p:nvPr/>
        </p:nvPicPr>
        <p:blipFill>
          <a:blip r:embed="rId1"/>
          <a:stretch/>
        </p:blipFill>
        <p:spPr>
          <a:xfrm>
            <a:off x="5029200" y="1905120"/>
            <a:ext cx="3962520" cy="32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Insurgent-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One who rebels or rises against authority; (adj.) rising in revolt, refusing to accept authority; surging or rushing in or 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nonyms: revolutionary, rebellious, mutino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4T03:18:07Z</dcterms:created>
  <dc:creator>Byron</dc:creator>
  <dc:description/>
  <dc:language>en-US</dc:language>
  <cp:lastModifiedBy> </cp:lastModifiedBy>
  <dcterms:modified xsi:type="dcterms:W3CDTF">2008-11-26T16:52:56Z</dcterms:modified>
  <cp:revision>8</cp:revision>
  <dc:subject/>
  <dc:title>Vocabulary Level F Unit 6  Part B Byron Joell</dc:title>
</cp:coreProperties>
</file>