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07A-EA67-4398-9633-CA8184D0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A23-73CE-460C-837E-A0651426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C6C3-B0B5-4271-864E-AF53E715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90A-2412-4216-A6E8-261DDE5B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1B10-F31B-42C1-BB98-517F96E0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58D0-E035-4EFE-B719-6D1A5C85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D141-3AAE-4D5D-94CC-D6FF7A3A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1BD4-DF8F-4267-ABC6-528F8091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C604-7012-4264-80AB-05D27441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85CF-43F6-493F-BAF4-68A8AA06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BB5B-03CC-4640-AF05-0D33EC2B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04EF-A41D-4FA3-B3C0-F61D7D94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EAA2-284C-43F4-8299-59736B775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arnerreprise.com/artist_newsletters/mychemicalromance/HEARSE.jpg&amp;imgrefurl=http://www.quizilla.com/users/these4walls/quizzes/The%2520%255BCurse%255D%2520of%2520the%2520Hearse/&amp;h=422&amp;w=798&amp;sz=90&amp;hl=en&amp;start=6&amp;tbnid=nAjmrSDr1vCPvM:&amp;tbnh=76&amp;tbnw=143&amp;prev=/images%3Fq%3Dhearse%26gbv%3D2%26svnum%3D10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omp.org/imgs/ewebeditor/summer_2003_007a.jpg&amp;imgrefurl=http://www.chomp.org/news/pulse/2003/sumfall03/school.aspx&amp;h=305&amp;w=250&amp;sz=18&amp;hl=en&amp;start=1&amp;tbnid=xxr3nyAPS4xYBM:&amp;tbnh=116&amp;tbnw=95&amp;prev=/images%3Fq%3Dkids%2Bbored%2Bin%2Bclass%26gbv%3D2%26svnum%3D10%26hl%3De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ocabulary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evel F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nit 5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r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228600"/>
            <a:ext cx="68580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onathan Swift used wit to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cour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he British government got its cruel treatment of Ire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courg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an old punishment we no longer us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3962160" cy="272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pulchral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ereal,typical of the t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95280" y="380880"/>
            <a:ext cx="64008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ister announced in a severe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pulch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ne of voice that we were out of cook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hearse definitely look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pulchr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4267080"/>
            <a:ext cx="4267080" cy="226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porific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nding to cause sleep,relating to sleepiness or letha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66680" y="304920"/>
            <a:ext cx="6172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claimed that the musical, despite its energy,w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oporifi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that he had slept through the entire second ac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3124080"/>
            <a:ext cx="2771640" cy="3382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itlaced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emely strict in regard to moral standards and con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380880"/>
            <a:ext cx="76197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velers may find people oversea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traitlac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 some ways but surprisingly free in oth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y believe those in religion ar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traitlaced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ut that is not always tru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11788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ient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ting only a short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609480"/>
            <a:ext cx="70866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 bad mood w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and by the time he’d finished his breakfast, he was smi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eauty of nature is oft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ansi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191120" y="3809880"/>
            <a:ext cx="2212920" cy="277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wieldy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easily carried,handled,or managed because of 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5-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cep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porif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lutar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itlac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ath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ourg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wiel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pulchra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ap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45720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ing the supplies up the mountain clearly proved to be a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unwield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roces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pid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ll uninteresting,tires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38080" y="380880"/>
            <a:ext cx="655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critics called the movie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vapi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 thought the performers were very compell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343400" y="2438280"/>
            <a:ext cx="3724200" cy="426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1219320"/>
            <a:ext cx="66294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recept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rule of conduct or a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533520"/>
            <a:ext cx="7925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religions follow th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ep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at it is important to treat others as you,yourself, would like to be trea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lutary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cial,helpful:healthful,wholes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6680" y="380880"/>
            <a:ext cx="72392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ute puppy had a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alut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ffect on her heal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uits and vegetables have a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alutary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n health, t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thing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terly severe, withering:causing great h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380880"/>
            <a:ext cx="6324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imes a carefully reasoned discussion does more to change peoples minds than a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cathing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ac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95480" y="3341520"/>
            <a:ext cx="5791320" cy="3238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urge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whip,punish severely; source of severe critic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0:20:32Z</dcterms:created>
  <dc:creator>laxgurl224</dc:creator>
  <dc:description/>
  <dc:language>en-US</dc:language>
  <cp:lastModifiedBy>Nancy</cp:lastModifiedBy>
  <dcterms:modified xsi:type="dcterms:W3CDTF">2009-01-01T19:29:09Z</dcterms:modified>
  <cp:revision>6</cp:revision>
  <dc:subject/>
  <dc:title>PowerPoint Presentation</dc:title>
</cp:coreProperties>
</file>