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99B-92B3-47BE-A091-C9ECC8FA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C1E-DEE9-4197-B6B9-04C3A61E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465-9DC8-41BF-BE76-DF08F474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1BA-C53F-4B1A-9BED-46934799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6D4-3E80-4BCC-A4FF-0DD80823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5BA-6D1E-4990-B61D-59C0A7B5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01E-FC34-4F2F-B748-A3B07A27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16D9-0554-47D5-BA72-BF098C2D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E65-4372-4923-95BB-540FB633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B6D-4BE6-4AA6-817B-FFB8CF3C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044-100A-45DE-9CBA-3898DCFC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334-7416-496C-9EF4-49F846A2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D8B3-511F-4C83-B617-DD709E0CA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arnerreprise.com/artist_newsletters/mychemicalromance/HEARSE.jpg&amp;imgrefurl=http://www.quizilla.com/users/these4walls/quizzes/The%2520%255BCurse%255D%2520of%2520the%2520Hearse/&amp;h=422&amp;w=798&amp;sz=90&amp;hl=en&amp;start=6&amp;tbnid=nAjmrSDr1vCPvM:&amp;tbnh=76&amp;tbnw=143&amp;prev=/images%3Fq%3Dhearse%26gbv%3D2%26svnum%3D10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omp.org/imgs/ewebeditor/summer_2003_007a.jpg&amp;imgrefurl=http://www.chomp.org/news/pulse/2003/sumfall03/school.aspx&amp;h=305&amp;w=250&amp;sz=18&amp;hl=en&amp;start=1&amp;tbnid=xxr3nyAPS4xYBM:&amp;tbnh=116&amp;tbnw=95&amp;prev=/images%3Fq%3Dkids%2Bbored%2Bin%2Bclass%26gbv%3D2%26svnum%3D10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ocabulary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vel F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nit 5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228600"/>
            <a:ext cx="68580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nathan Swift used wit to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cour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e British government got its cruel treatment of Ire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courg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an old punishment we no longer us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3962160" cy="272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ulchral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ereal,typical of the t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95280" y="380880"/>
            <a:ext cx="6400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ister announced in a severe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pulch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ne of voice that we were out of cook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earse definitely look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pulchr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4267080"/>
            <a:ext cx="4267080" cy="226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porific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ding to cause sleep,relating to sleepiness or letha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304920"/>
            <a:ext cx="6172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claimed that the musical, despite its energy,w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porifi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that he had slept through the entire second a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3124080"/>
            <a:ext cx="2771640" cy="3382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tlaced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emely strict in regard to moral standards and con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380880"/>
            <a:ext cx="76197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velers may find people oversea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raitlac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 some ways but surprisingly free in oth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y believe those in religion ar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raitlaced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ut that is not always tr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11788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ient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ing only a short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609480"/>
            <a:ext cx="7086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 bad mood w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and by the time he’d finished his breakfast, he was smi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eauty of nature is oft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nsi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2212920" cy="277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wieldy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easily carried,handled,or managed because of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5-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cep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porif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lutar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itla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ath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ourg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wiel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pulchra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p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45720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ing the supplies up the mountain clearly proved to be 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unwield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ce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pid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ll uninteresting,tir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380880"/>
            <a:ext cx="65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critics called the movie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vapi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thought the performers were very compel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43400" y="2438280"/>
            <a:ext cx="3724200" cy="426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219320"/>
            <a:ext cx="66294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ecept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rule of conduct or 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533520"/>
            <a:ext cx="792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religions follow th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at it is important to treat others as you,yourself, would like to be tre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utary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cial,helpful:healthful,whol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380880"/>
            <a:ext cx="72392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te puppy had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alut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ffect on her heal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uits and vegetables have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alutary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n health, t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thing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terly severe, withering:causing great h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380880"/>
            <a:ext cx="6324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imes a carefully reasoned discussion does more to change peoples minds than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athing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95480" y="3341520"/>
            <a:ext cx="5791320" cy="323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urge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whip,punish severely; source of severe criti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0:20:32Z</dcterms:created>
  <dc:creator>laxgurl224</dc:creator>
  <dc:description/>
  <dc:language>en-US</dc:language>
  <cp:lastModifiedBy>Nancy</cp:lastModifiedBy>
  <dcterms:modified xsi:type="dcterms:W3CDTF">2009-01-01T19:29:09Z</dcterms:modified>
  <cp:revision>6</cp:revision>
  <dc:subject/>
  <dc:title>PowerPoint Presentation</dc:title>
</cp:coreProperties>
</file>