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D06A-3AA0-43E6-8F94-9BA4A32EB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0AC8-C01F-453C-AAF3-0162E38B9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6710-63D8-4C6B-910F-8726B700F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F4FD-8FDB-4085-8D39-B0B49B31A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C653B-639A-440C-BFA5-680FE3F05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E31D5-98FF-4D3A-AD42-44FC0D003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B64B6-7003-4DB5-859A-4F204DDF8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815C8-BCB5-458F-B0E1-1C1CF182C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EA248-FA7B-4868-80A8-82544084B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5E1AF-98DA-4AE3-A9AE-1986B2B7E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D1703-4C57-49DB-8A6B-9C2A3AAF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1C3E-294E-478C-9226-5E9F8D3BC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7291B-B85B-486C-AAED-AFB5ED279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39E5A-489A-48DF-AE97-2B3E60E3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0DE31-8C9F-42A8-B554-6F6986594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BF1E5-3275-435E-BA36-55C149DFF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1A936-D492-45F1-8CB7-48BB530AD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68C9-FB4E-413C-96BF-9AC73302D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2150-0D07-46B5-A471-E91418EBC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FFC0-B65F-4604-A8B4-5F5B58860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FF7C-223F-464F-85A9-E842EF3AC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2F28-74DA-4526-A438-9FBD44A66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B1B2-CE64-41D8-982A-20672AC77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09F8-6B94-4A4A-8A87-7980F2AA0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87B4F-E7DE-4CDE-8CE0-E26C26B62175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641F3-D5EB-4EA8-9B49-6EDE26084572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Vocabulary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Level F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Unit 2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Part A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allow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y entered the army as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callow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recruits and left as seasoned veterans.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2743200" y="3505320"/>
            <a:ext cx="3957480" cy="30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rivel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aliva or mucas flowing from the mouth or nose; foolish, aimless talk or thinking; nonsens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yn:  balderdash, hogwash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rivel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o me, my dream of becoming an astronaut made perfect sense, but when I told it to my friend, it sounded like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drivel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.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2895480" y="3581280"/>
            <a:ext cx="327672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pitome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 summary, condensed account; an instance that represents a larger reality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yn:  model, archetype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pitome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dmitting when you have been fairly defeated is the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epitome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of sportsmanship.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Oprah is the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epitome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of a TV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tar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4800600" y="3429000"/>
            <a:ext cx="28576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xhort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o urge strongly, advise earnestly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yn:  entreat, implore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xhor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ith dramatic gestures, our captain vigorously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exhorted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the team to play harder.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6324480" y="3505320"/>
            <a:ext cx="1959120" cy="297180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2"/>
          <a:stretch/>
        </p:blipFill>
        <p:spPr>
          <a:xfrm>
            <a:off x="685800" y="3733920"/>
            <a:ext cx="428616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x officio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y virtue of holding a certain offic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x officio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President is the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ex officio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commander in chief of the armed forces in time of war.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President of th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ollege is an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ex officio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ember of the Board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of Trustee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6324480" y="3124080"/>
            <a:ext cx="27068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fringe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o violate, trespass, go beyond recognized bound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yn:  encroach, intrude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Unit 2-A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ameliorate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epitome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aplomb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exhort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bombastic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ex officio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callow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infringe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drivel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ingratiate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fringe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f you continue to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infringe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on my responsibilities, will you also take the blame for any mistakes?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any feel surveillanc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ameras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infringe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o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People’s right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6629400" y="3048120"/>
            <a:ext cx="21718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gratiate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o make oneself agreeable and thus gain favor or acceptance by others (sometimes used in a critical or derogatory sense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yn:  cozy up to, curry favor with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gratiate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t is not a good idea to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ingratiate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oneself by paying insincere compliments.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1905120" y="2900520"/>
            <a:ext cx="5257800" cy="39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meliorat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o improve, make better, correct a flaw or shortcoming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yn:  amend, better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meliorat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 hot meal can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ameliorate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the discomforts of even the coldest day.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2666880" y="3581280"/>
            <a:ext cx="358164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plomb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Poise, assurance, great self-confidenc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yn:  composure, levelheadedness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plomb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onsidering th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amily’s tense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ood, you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andled the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tuation with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aplomb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.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4724280" y="457200"/>
            <a:ext cx="40244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ombastic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Pompous or overblown in language; full of high-sounding words intended to conceal a lack of ideas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yn:  inflated, pretentious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ombastic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e delivered a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bombastic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speech that did not even address the problem. 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2057400" y="3809880"/>
            <a:ext cx="487692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allow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ithout experience; immature, not fully develope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yn:  green, raw, unfledged, inexperienced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3:43:20Z</dcterms:created>
  <dc:creator>NPSD</dc:creator>
  <dc:description/>
  <dc:language>en-US</dc:language>
  <cp:lastModifiedBy>Nancy</cp:lastModifiedBy>
  <dcterms:modified xsi:type="dcterms:W3CDTF">2009-01-01T19:03:21Z</dcterms:modified>
  <cp:revision>6</cp:revision>
  <dc:subject/>
  <dc:title>Vocabulary  Level F Unit 2 Part A </dc:title>
</cp:coreProperties>
</file>