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067-CF10-49D6-B62F-0A345872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D89-6A02-4611-8D8F-801179B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85D-108E-47F4-A33B-7A592276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6C3-8342-43FB-B949-148B77BC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2B4F-0A46-427B-B571-531998C1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0EDA-D877-4D80-81A7-B3CD5FC1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AC2A-427C-4621-9941-D08B3643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4083-80CC-4C0E-A785-6F5C6503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2F6F-7D31-418B-9835-2F6088DF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73CF-050C-4A1A-A32C-B6D81613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53F3-3C62-46FC-877D-BCD7F2F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A84-BE92-47B7-981B-083419BC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6F20-CDB4-46DA-A4CF-AD764640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D65A-39D8-4531-99BF-90BDD4E9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EE59-5076-402A-8F0D-DFF15959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B929-E9FA-4EE2-BFCD-3DB782B1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9292-ED2D-4452-94CD-04BBA4D8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8B0-4A91-4166-9CF7-6F6AA98E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6DC-1031-47B2-AD26-1C583466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DDE-C358-4AAF-9AE4-1C96BE17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4C2-2952-4635-92A2-62B768B6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C01-D32C-4C1F-AA73-2748B9B2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829-2446-4477-B755-F9EC7B6F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6DA-CCE3-4CF0-9A78-D1767458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959E-5BF9-4E18-AD66-90C423F9BB0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14D7-5162-4B6A-98BB-ABE1F034732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Vocabula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Part A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entered the army 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callow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recruits and left as seasoned veteran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957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liva or mucas flowing from the mouth or nose; foolish, aimless talk or thinking; nonsen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balderdash, hogwas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e, my dream of becoming an astronaut made perfect sense, but when I told it to my friend, it sounded li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iv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276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summary, condensed account; an instance that represents a larger realit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model, archetyp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mitting when you have been fairly defeated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sportsmanship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prah is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a T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urge strongly, advise earnestl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treat, implor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dramatic gestures, our captain vigorous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hort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team to play harde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1959120" cy="29718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virtue of holding a certain off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ommander in chief of the armed forces in time of wa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of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lege is 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mber of the Boar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f Truste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270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violate, trespass, go beyond recognized b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croach, intrud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2-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meliorate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pito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lomb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hor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bombastic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 offici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callow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fring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drivel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gratiat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you continue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 my responsibilities, will you also take the blame for any mistakes?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feel surveill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mer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’s righ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171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ke oneself agreeable and thus gain favor or acceptance by others (sometimes used in a critical or derogatory sens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zy up to, curry favor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not a good idea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grati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eself by paying insincere compliment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905120" y="2900520"/>
            <a:ext cx="52578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improve, make better, correct a flaw or shortcom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amend, bette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hot meal c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melior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discomforts of even the coldest day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581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ise, assurance, great self-confi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mposure, levelheadedn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idering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mily’s tens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od, you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ndled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tuation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plomb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2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mpous or overblown in language; full of high-sounding words intended to conceal a lack of idea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inflated, pretentiou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delivered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ombastic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speech that did not even address the problem.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769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out experience; immature, not fully develo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green, raw, unfledged, inexperience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3:20Z</dcterms:created>
  <dc:creator>NPSD</dc:creator>
  <dc:description/>
  <dc:language>en-US</dc:language>
  <cp:lastModifiedBy>Nancy</cp:lastModifiedBy>
  <dcterms:modified xsi:type="dcterms:W3CDTF">2009-01-01T19:03:21Z</dcterms:modified>
  <cp:revision>6</cp:revision>
  <dc:subject/>
  <dc:title>Vocabulary  Level F Unit 2 Part A </dc:title>
</cp:coreProperties>
</file>