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FB9-D5A3-4052-9D08-5416F7B3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029-724D-4B71-A64E-AF8E1A54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98B-E1F5-4E26-A05E-D2E7E82C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C57-62CF-4846-9705-77D0ACC2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091-7809-414A-9744-7536EC04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FF00-1723-4CE3-B073-08F0C39E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D783-59FE-4478-9E8A-328585B7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60D5-BEA5-4353-AC91-ED8BA329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D79F-A6F7-4F59-A828-4465A4B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9DEE-59D7-4DF4-AB24-9BA29CAD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55EF-8EEA-4FA0-85D7-E205579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3D3-A98D-40C9-AAFC-D0CDCC9B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D38B-1EF1-4700-B1C5-2F94933F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4ED4-96A1-4CF6-A748-EB229AC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CEC0-A9E3-408C-AF6D-CBE107DA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1171-D1A1-4587-9A77-01FB9005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5754-1EAB-47BB-961C-29AFDCD8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D2D-1D95-49C3-B3DC-A8FAE670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94B-3A0A-4F6F-8B5E-92093221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944-F9E5-4CD7-8550-6B15076C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BA4-2D65-4C4A-80D3-1FBC1E52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862-5075-464F-B494-35725512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AAB-A156-4699-8946-5A9A0259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140-5F64-45B0-BB3B-F0BC7FF8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7468-9005-499B-8948-7965B69AA6A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1BEB-3704-43D0-9681-54E1F0B58A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lairweb.org.nz/leonardo/monalisa.jpg&amp;imgrefurl=http://yedda.com/questions/Mona_Lisa_Gherardini_Leonardo_4953636164811/&amp;usg=__xSVMyrq6hrYBPGwoxk2HkQ4kalQ=&amp;h=520&amp;w=334&amp;sz=17&amp;hl=en&amp;start=2&amp;tbnid=k5zxeehGDtKFcM:&amp;tbnh=131&amp;tbnw=84&amp;prev=/images%3Fq%3DMona%2Blisa%26gbv%3D2%26hl%3Den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i7.photobucket.com/albums/y298/Zahgon/MonaLisa.jpg&amp;imgrefurl=http://renaissanceandart.blogspot.com/2007/04/mona-lisa-smile-secrets-revealed.html&amp;usg=__IsjEBxx95qhchvJZz9UDECHBYIw=&amp;h=354&amp;w=267&amp;sz=56&amp;hl=en&amp;start=13&amp;tbnid=bO_SqPLKRhsLlM:&amp;tbnh=121&amp;tbnw=91&amp;prev=/images%3Fq%3DMona%2Blisa%26gbv%3D2%26hl%3Den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cabulary Level F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t 1 Part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4054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Mertori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 worthy, deserving recognition and pra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raiseworthy, laudable, commend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blameworthy, reprehen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year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ERITORI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rvice could not dissuade him from feeling that he had not chosen work that he li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+++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095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evish, annoyed by trif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ble, testy, waspis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even-tempered, placid, sere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overworked parent may be unlikely to indulge the complaints of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ETUL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244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h Humbu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enezer Scroo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666880" y="2666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jade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ovinci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uri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imul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eritorious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ransce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etulan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mbrag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erogative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nctuo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A special right or privilege, special qual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erquisite, per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eemed to feel that a snooze at her desk was not an annoying habit but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ROGA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veteran employe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547640"/>
            <a:ext cx="7819920" cy="4938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tice the fla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njo, once thought to be a PROVINCIAL product of the Southern hills, actually came here from Afr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provincial ro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4280"/>
            <a:ext cx="6096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rtaining to an outlying area; loc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narrow-minded, parochial, insul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cosmopolitan, catholic, broad-minded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make a pretense, imit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feign, pretend, affe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skilled actors c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SIMUL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motions they might never have felt in lif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7608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9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rise above or beyond, exc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urpass, outstri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reat mark of art may be sai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RANSCE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, and it is remembered for decades, or even centur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3657600"/>
            <a:ext cx="1923840" cy="3000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3657600"/>
            <a:ext cx="22431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ssence of human life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transcend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ur differenc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offense, rese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tion, pique, annoy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ure, delight, satisfa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hesitated to offer her opinion, fearing that they would t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MBR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her criticism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76480" y="714240"/>
            <a:ext cx="67910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)wearied, worn out, du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ated, surfeited, cloye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Unspoiled, uncloy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Excessively smooth or smu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Mealymouthed. Servile. Fawning, greas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Gruff, blu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 consistent inquiring about the health of my family at first seemed friendly, later mere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NCTU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98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ilted handclasp and the fast-melting smile mark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JA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fugee of too many par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Causing shock, horr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gruesome, gory, grisly, ghast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ant, attractive, appeal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ght, sensational and oft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LUR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ome old-time movie posters make today’s newspaper ads look ta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2:02:00Z</dcterms:created>
  <dc:creator>NPSD</dc:creator>
  <dc:description/>
  <dc:language>en-US</dc:language>
  <cp:lastModifiedBy>NPSD</cp:lastModifiedBy>
  <dcterms:modified xsi:type="dcterms:W3CDTF">2009-02-06T16:37:41Z</dcterms:modified>
  <cp:revision>9</cp:revision>
  <dc:subject/>
  <dc:title>~*!Vocabulary Level F!*~</dc:title>
</cp:coreProperties>
</file>