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8F1B-CD70-4542-98ED-739302E3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0A6-AC6C-4A9E-8785-889C36D9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CD8-B340-4CE5-AEEC-0EC05669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BC6-5B94-4B92-9E6E-0A7C80AD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EB92B-E2E6-47D5-B01F-BFCCDCAE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42DF3-2118-4C81-B5AB-CF4A68B9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232CD-95F2-43F7-A82B-10AD5602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174B5-36C8-493A-A75B-D3342A3C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16597-B76D-4E7A-A4D7-23E8478B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71152-84AB-4A57-AA82-C499FAE2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ED583-2AD6-43BC-8DF0-5375D217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572-1ED4-470E-9091-19C70AB5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C50A9-9933-44C7-88D9-65B78C17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086FA-02D0-4985-BECB-51D4F6D3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B2A67-F0EA-4EAB-BA05-7777FC19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0CDE7-40D8-47E2-9F57-00AE178E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9FB23-ADD4-4159-8CFE-663384D8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2C1-0061-496F-B114-A14C2E1F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C6D-B33B-48D6-B515-248A756A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42F-F3C1-43BC-BD6C-9FD2D4CE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D98-792E-4963-BD63-A0050B13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7CF-3069-48C5-9ECE-DC1A6DCD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016-52D4-47B7-B731-6B8C9400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8EB-7422-4167-919E-B6E8A5EF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1E11-0ED8-4A63-A0FF-80DF90639E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6DA1-8BF9-4DF3-9B65-55D1CE8B4E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3e3ff"/>
                </a:solidFill>
                <a:latin typeface="Arial"/>
              </a:rPr>
              <a:t>Vocabulary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Level F</a:t>
            </a:r>
            <a:br>
              <a:rPr sz="6000"/>
            </a:b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Unit 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ar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alition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4648320" cy="3657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4343400" cy="403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ali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alliance, league, federation, comb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The various community organizations form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ali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lobby against parking law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caden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ine, decay, or deterioration; a condition or period of decline or decay; excessive self-indul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ecadence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733560" cy="3525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Image Copyright 2006 James Wakefield - All Rights Reserved"/>
          <p:cNvPicPr/>
          <p:nvPr/>
        </p:nvPicPr>
        <p:blipFill>
          <a:blip r:embed="rId2"/>
          <a:stretch/>
        </p:blipFill>
        <p:spPr>
          <a:xfrm>
            <a:off x="228600" y="2362320"/>
            <a:ext cx="45910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caden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degeneration,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Some characterized her love of chocolate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cad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cause she ate at least two candy bars a da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licit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raw forth, bring out from some source (such as another person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cc"/>
                </a:solidFill>
                <a:latin typeface="Arial"/>
              </a:rPr>
              <a:t>Elicit</a:t>
            </a:r>
            <a:r>
              <a:rPr b="1" lang="en-US" sz="6000" spc="-1" strike="noStrike">
                <a:solidFill>
                  <a:srgbClr val="e3e3ff"/>
                </a:solidFill>
                <a:latin typeface="Arial"/>
              </a:rPr>
              <a:t>:</a:t>
            </a:r>
            <a:br>
              <a:rPr sz="6000"/>
            </a:b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3657600" cy="4152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038480" y="1447920"/>
            <a:ext cx="510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ici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 call forth, evoke, extract, ed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tence:  My attempt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ic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formation over the phone was met with a barrage of irrelevant recordin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ostul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ttempt to dissuade someone from some course or decision by earnest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xpostulate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360" y="2286000"/>
            <a:ext cx="3489480" cy="4191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733920" y="2438280"/>
            <a:ext cx="541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pprobatio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postu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suag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ckne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aliti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iat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cadenc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nuen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icit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erce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ostul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protest, remonstrate, compl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Shakespeare’s Hamlet finds it useless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ostul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mother for siding with his stepfath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ckney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so often as to lack freshness or origi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ackneyed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3513240" cy="3581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3400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ckney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banal, trite, commonplace, cor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The Great Gatsby tells a universal story without being ruin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ackney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se and descrip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at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ap, opening, break (in the sense of having an element missing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iatu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at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p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I was awakened not by a sudden sound but by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iat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din of traffic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nuen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nt, indirect suggestion, or reference (often in a derogatory sense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nnuendo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35360" y="2438280"/>
            <a:ext cx="4203720" cy="4419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434340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nuen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insinuation, inti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Those lacking the facts or afraid of reprisals often tarnish an enemy’s reputation by use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nuend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pprob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pression of approval or favorable opinion, praise; official 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rce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lead on behalf of someone else; to serve as a third party or go-between in a disagre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nterced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886200" cy="4572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114800" cy="4368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rce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intervene, medi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She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terce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dispute between the two children, and soon they will be playing happily agai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pprobation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240048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952880" y="2362320"/>
            <a:ext cx="419112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pprobation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commendation, sa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My broad hint that I had paid for the lessons myself brought smile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pprob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all the judges at the piano recita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ssu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easier or milder, relieve; to quiet, calm; to put an end to, appease, satisfy, qu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ssuage: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00440" y="1905120"/>
            <a:ext cx="4543560" cy="3962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Mother and Baby Feeding"/>
          <p:cNvPicPr/>
          <p:nvPr/>
        </p:nvPicPr>
        <p:blipFill>
          <a:blip r:embed="rId2"/>
          <a:stretch/>
        </p:blipFill>
        <p:spPr>
          <a:xfrm>
            <a:off x="533520" y="1905120"/>
            <a:ext cx="3709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ssu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mitigate, alleviate, slake, al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Her eyes told me that more than a few well-chose words would be need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su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r hurt feelin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alition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bination, union, or merger for some specific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2:25:05Z</dcterms:created>
  <dc:creator>NPSD</dc:creator>
  <dc:description/>
  <dc:language>en-US</dc:language>
  <cp:lastModifiedBy>NPSD</cp:lastModifiedBy>
  <dcterms:modified xsi:type="dcterms:W3CDTF">2009-02-06T16:36:33Z</dcterms:modified>
  <cp:revision>5</cp:revision>
  <dc:subject/>
  <dc:title>Level F Vocabulary </dc:title>
</cp:coreProperties>
</file>