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B2D-AA30-4860-ABA6-4DE878F1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D56-243C-4CA0-B29E-9A5E6640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AA2-B37D-46BD-ACE1-43FFAC45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E52-1043-4CCA-924A-E5536A96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CACC1-0406-4AB8-B79A-F468B3F3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E8D4-E655-4164-BDEB-D1740693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375E-710E-4FF6-B295-17770DFF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C813-C96A-4A13-B7C0-C1ED7B1B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D0160-46F6-4393-8157-F5A150C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BC322-1747-4009-AF93-072C7368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47BC-B928-4408-BFE5-2F40C75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826-C9B7-4350-83F4-DED00571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38B3C-168F-4E76-836E-F7FC517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7D32C-2F04-4836-B65F-88872BA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B1E26-2197-49E1-A695-044F6CB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F81B9-41BB-4C88-9125-82FF3524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629A7-EA2C-4388-8157-F3C5431A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772-D238-4788-8BE7-8CE0072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814-E889-4D7F-92C5-31AAFD33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EB3-EB3E-4B70-8625-CBC6F57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805-CB4D-4CB2-9C5B-883B8068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D81-BFC9-40E8-B28E-4E01C33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60E-CE39-4759-9B5F-3334AA4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009-BB06-4DEA-8542-5E30B56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BE06-CF17-4916-A632-9F1A2C4130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6E4E-FD2E-4E38-B627-3DCA0181DB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Vocabulary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ali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lliance, league, federation, co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various community organizations form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al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lobby against parking la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, decay, or deterioration; a condition or period of decline or decay; excessive self-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cadenc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733560" cy="352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Image Copyright 2006 James Wakefield - All Rights Reserved"/>
          <p:cNvPicPr/>
          <p:nvPr/>
        </p:nvPicPr>
        <p:blipFill>
          <a:blip r:embed="rId2"/>
          <a:stretch/>
        </p:blipFill>
        <p:spPr>
          <a:xfrm>
            <a:off x="228600" y="2362320"/>
            <a:ext cx="4591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degeneration,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ome characterized her love of chocolate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ad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she ate at least two candy bars a d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ici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aw forth, bring out from some source (such as another pers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Arial"/>
              </a:rPr>
              <a:t>Elicit</a:t>
            </a: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4152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c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 call forth, evoke, extract, 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:  My attemp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i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 over the phone was met with a barrage of irrelevant recor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mpt to dissuade someone from some course or decision by earnest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stul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360" y="2286000"/>
            <a:ext cx="348948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rob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ostu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u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kne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l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aden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nu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ici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ce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rotest, remonstrate, com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akespeare’s Hamlet finds it useles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ostul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mother for siding with his step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 often as to lack freshness or origi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ckney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1324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400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anal, trite, commonplace, cor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Great Gatsby tells a universal story without being ruin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ckney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se and descrip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p, opening, break (in the sense of having an element missing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iatu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 was awakened not by a sudden sound but b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n of traff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nt, indirect suggestion, or reference (often in a derogatory sens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nuend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5360" y="2438280"/>
            <a:ext cx="4203720" cy="441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43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sinuation, in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ose lacking the facts or afraid of reprisals often tarnish an enemy’s reputation by 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uen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ression of approval or favorable opinion, praise; official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ead on behalf of someone else; to serve as a third party or go-between in a dis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ced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43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tervene, 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e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ce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spute between the two children, and soon they will be playing happily aga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pproba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4004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mmendation, sa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y broad hint that I had paid for the lessons myself brought smile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rob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ll the judges at the piano recit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easier or milder, relieve; to quiet, calm; to put an end to, appease, satisfy, qu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uage: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00440" y="1905120"/>
            <a:ext cx="454356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Mother and Baby Feeding"/>
          <p:cNvPicPr/>
          <p:nvPr/>
        </p:nvPicPr>
        <p:blipFill>
          <a:blip r:embed="rId2"/>
          <a:stretch/>
        </p:blipFill>
        <p:spPr>
          <a:xfrm>
            <a:off x="533520" y="1905120"/>
            <a:ext cx="370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itigate, alleviate, slake, al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Her eyes told me that more than a few well-chose words would be nee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hurt feel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, union, or merger for some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2:25:05Z</dcterms:created>
  <dc:creator>NPSD</dc:creator>
  <dc:description/>
  <dc:language>en-US</dc:language>
  <cp:lastModifiedBy>NPSD</cp:lastModifiedBy>
  <dcterms:modified xsi:type="dcterms:W3CDTF">2009-02-06T16:36:33Z</dcterms:modified>
  <cp:revision>5</cp:revision>
  <dc:subject/>
  <dc:title>Level F Vocabulary </dc:title>
</cp:coreProperties>
</file>