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28B-E3FF-404C-A393-0E356DBA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A7A-AC46-4F1B-9062-88A74A3C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8F5-430B-4982-8D49-577CC805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815-D0BC-4B0C-A54B-FC7E1584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128-41D8-40E2-8606-10623C9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F41-517E-4D9F-A53E-FDEBB59D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C95-DC89-4145-B31B-81A59220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902-00BE-475A-BEEC-178AB01E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6D3-C51E-4265-9A8F-68B947A4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C84-709E-4860-B0E4-CF15513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714-81F2-4247-833E-C989BBA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A12-34A5-4E15-A5DB-A519E4B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0C45-5DC2-4550-8D3D-41CD44A0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art 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4680" y="-30697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some days I am overcome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assitud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 the thought of so many more years of sch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Millen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a period of one thousand years; a period of great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chiliad, golden age, prosperity,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1160" y="-15922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9 an argument raged over whether 2000 or 2001would mark the beginning of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illen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Occu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adj.) mysterious, magical, supernatural; secret, hidden from view; no detectable by ordinary means; (v.) to hide, conceal; eclipse; (n.) matters involving the super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ynonyms: supernatural, esoteric, abstruse, ar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43240" y="1371240"/>
            <a:ext cx="106668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need not rely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nowledge to grasp why things disappear in a house where two cats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ch of his talk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ms grounded in nothing but trick photography and folk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erme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spread through, penetrate, soa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-24606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r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ermeate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 of my clothing and reduced the map in my pocket to a pulpy m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3718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recipi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fall as moisture; to cause or bring about suddenly; to hurl down from a great height; to give distinct form to; (adj.) characterized by excessive haste; (n.) moisture; the product of an action o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provoke, produce, reckless, impe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3080" y="-11653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olars often disagree over which event or event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historic mo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admit that my outburs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 many eggs in this particular pudding will leave a mess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e baking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6160" y="1676520"/>
            <a:ext cx="41720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tring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strict, severe; rigorously or urgently binding or compelling; sharp or bitter to the 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stern, rigorous, tough, urgent, imp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lop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ig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s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lenniu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c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e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m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3240" y="184284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argue that m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tringen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ws against speeding will make our streets sa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urm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think or believe without certain supporting evidence; to conjecture or guess; (n.) likely idea that lacks definit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infer, gather, inference, pre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5520" y="662760"/>
            <a:ext cx="83844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cannot be sure, but 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at she would not accept my apology even if I made it on my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olice had no proof, nothing to go on but a suspicion, a m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19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erlop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one who moves in where he or she is not wanted or has no right to be, an intr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trespasser, meddler, butt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72400" y="-26125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rowd was so eager to see the band perform that they resented the opening singer as a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erl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419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rin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belonging to someone or something by its very nature, essential, inherent; originating in a bodily organ or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4520" y="-32608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had been my father’s favorite book when he was my age, but for me it held li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820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ve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make a violent attack in words, express strong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rail, harangue, fulminate, r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0640" y="-35650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veig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st the plan with quite so much vigor until you have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76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ass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n.) weariness of body or mind, 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fatigue, lethargy, torpor, lang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06:38Z</dcterms:created>
  <dc:creator>Stephen C. Smith</dc:creator>
  <dc:description/>
  <dc:language>en-US</dc:language>
  <cp:lastModifiedBy>Nancy</cp:lastModifiedBy>
  <dcterms:modified xsi:type="dcterms:W3CDTF">2008-12-28T22:52:48Z</dcterms:modified>
  <cp:revision>3</cp:revision>
  <dc:subject/>
  <dc:title>Vocabulary Level F Unit 2-B</dc:title>
</cp:coreProperties>
</file>