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A76-9EE5-48DF-A926-B145A4D0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1D5-E80D-46B7-8066-AA609AA1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6CC9-A447-4607-8E0C-E163A4E6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B413-B36E-4077-979F-536E738C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D39-0E2B-4F32-A740-10333FCE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140-FB6C-497F-B973-D626898B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5DE-DB6B-4D06-B7C2-BB3EB0B6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F95-1F3D-4374-8FE0-15594C4E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C74-7215-4CBB-A634-C8F930B9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925-2A9F-48D5-BF1C-E70687B5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C63-6CC9-429C-A084-F5C0A554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FEA-DFC4-4532-9ED9-DACDB36B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68CE-5A6C-41C3-AE4E-A6706F929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Vocabula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Level 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Unit 2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Part 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24680" y="-3069720"/>
            <a:ext cx="152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685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n some days I am overcome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lassitud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 the thought of so many more years of schoo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2324160"/>
            <a:ext cx="3809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Millenn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n.) a period of one thousand years; a period of great j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ynonyms: chiliad, golden age, prosperity,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1160" y="-1592280"/>
            <a:ext cx="609480" cy="813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1999 an argument raged over whether 2000 or 2001would mark the beginning of the new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millenn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14800" y="1981080"/>
            <a:ext cx="307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Occul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(adj.) mysterious, magical, supernatural; secret, hidden from view; no detectable by ordinary means; (v.) to hide, conceal; eclipse; (n.) matters involving the super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ynonyms: supernatural, esoteric, abstruse, arc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43240" y="1371240"/>
            <a:ext cx="106668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ne need not rely 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occult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knowledge to grasp why things disappear in a house where two cats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uch of his talk abo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occult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ems grounded in nothing but trick photography and folkl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07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Perme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59056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v.) to spread through, penetrate, soak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00800" y="-2460600"/>
            <a:ext cx="457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ra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ermeated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all of my clothing and reduced the map in my pocket to a pulpy m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43718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Precipit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v.) to fall as moisture; to cause or bring about suddenly; to hurl down from a great height; to give distinct form to; (adj.) characterized by excessive haste; (n.) moisture; the product of an action or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nonyms: provoke, produce, reckless, impet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53080" y="-1165320"/>
            <a:ext cx="533520" cy="88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cholars often disagree over which event or events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recipitat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 historic mo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 admit that my outburst w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recipi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oo many eggs in this particular pudding will leave a mess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recipitate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in the baking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286160" y="1676520"/>
            <a:ext cx="417204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String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adj.) strict, severe; rigorously or urgently binding or compelling; sharp or bitter to the t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ynonyms: stern, rigorous, tough, urgent, imper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lop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in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veig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ssitu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llenniu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ccu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meat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cipi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ingen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rmi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943240" y="1842840"/>
            <a:ext cx="2057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ome argue that mo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stringent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aws against speeding will make our streets sa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4956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Surmi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v.) to think or believe without certain supporting evidence; to conjecture or guess; (n.) likely idea that lacks definite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nonyms: infer, gather, inference, pre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5520" y="662760"/>
            <a:ext cx="838440" cy="54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 cannot be sure, but 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surmis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at she would not accept my apology even if I made it on my kn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police had no proof, nothing to go on but a suspicion, a me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surmis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41972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Interlop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n.) one who moves in where he or she is not wanted or has no right to be, an intru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ynonyms: trespasser, meddler, buttin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72400" y="-2612520"/>
            <a:ext cx="3808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crowd was so eager to see the band perform that they resented the opening singer as an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interlo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67080" y="2286000"/>
            <a:ext cx="44197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Intrins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adj.) belonging to someone or something by its very nature, essential, inherent; originating in a bodily organ or 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ynonyms: orga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4520" y="-326088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t had been my father’s favorite book when he was my age, but for me it held littl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intrinsic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inte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18200" y="1981080"/>
            <a:ext cx="266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Invei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v.) to make a violent attack in words, express strong disappr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ynonyms: rail, harangue, fulminate, remonst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00640" y="-356508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ou should no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inveigh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gainst the plan with quite so much vigor until you have rea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4876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Lassitu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n.) weariness of body or mind, lack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nonyms: fatigue, lethargy, torpor, langu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0:06:38Z</dcterms:created>
  <dc:creator>Stephen C. Smith</dc:creator>
  <dc:description/>
  <dc:language>en-US</dc:language>
  <cp:lastModifiedBy>Nancy</cp:lastModifiedBy>
  <dcterms:modified xsi:type="dcterms:W3CDTF">2008-12-28T22:52:48Z</dcterms:modified>
  <cp:revision>3</cp:revision>
  <dc:subject/>
  <dc:title>Vocabulary Level F Unit 2-B</dc:title>
</cp:coreProperties>
</file>