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B1DC0-69BA-4AC0-9739-E87F20ED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2E109-9113-48B9-BD99-CF6E4DB2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D2C78-983F-4798-A0A3-D1FE3141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6674C-92F6-41C0-B675-808CF3C3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3468-7009-49F9-B5BD-EFF34DBA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F6BF-88D0-44BE-9EDE-7A178B33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1763-E2E3-4134-BB6C-C94CB3C6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2797-90B2-4458-909D-2D5DF0C8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7C49-D489-424C-BF3B-8043E35E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4F69-6850-433B-BC94-5ADF706B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F0AD-EB43-4F98-AA38-B3F76679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23B4C-0434-4BFD-BB7D-B0F5A585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036D-ACD3-4A73-94AF-618A848B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05B7-2941-4847-80CB-1A8569FB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1532-80FB-4121-BB1D-F735C361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E626-C95D-4BFD-A1E5-8CE95F42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F072-7E23-43AC-B628-FAC0E4F8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152D7-D484-485B-9C84-4854A409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998D8-2545-40D9-8168-7BA20AE7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4C2C5-C5AD-4127-9FA0-195EF939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95ABF-6389-464E-9390-450E8BB1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DAEF0-22BC-4FDF-99FC-763CD6AF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31080-D7AD-42FA-8F1A-6071CB5B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03F62-C615-4C99-81AB-45D432A8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592D-FC59-4C47-864E-7FB1B2B5668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1139-155D-4522-93BB-C4806F2D56A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tfpontchartrain.org/files/5268Stop_Sign_small.jpg&amp;imgrefurl=http://www.jtfpontchartrain.org/index.php%3FcID%3D310&amp;h=494&amp;w=660&amp;sz=37&amp;hl=en&amp;start=12&amp;tbnid=e6F_Zd-ZqBJwTM:&amp;tbnh=103&amp;tbnw=138&amp;prev=/images%3Fq%3Da%2Bstop%2Bsign%26gbv%3D2%26svnum%3D10%26hl%3Den%26safe%3Dactive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better-horsetack.com/lj/images/fig22Asmall.gif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-05.ibm.com/employment/uk/hursleycommunity/bluefusion/images/2006_Virus_attack_F.gif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tatic.howstuffworks.com/gif/camera1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cites.uiuc.edu/edtech/teaching_showcase/articles/baird/newsletter_2_05/images/gump_n_lennon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Level F unit 5 vocabulary part 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oadcast, trump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See full size image"/>
          <p:cNvPicPr/>
          <p:nvPr/>
        </p:nvPicPr>
        <p:blipFill>
          <a:blip r:embed="rId1"/>
          <a:stretch/>
        </p:blipFill>
        <p:spPr>
          <a:xfrm>
            <a:off x="2971800" y="2209680"/>
            <a:ext cx="415764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Cave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arning or caution to prevent misunderstanding or discourage behavi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The well known Latin phrase “ caveat emptor” means “let the buyer beware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monition,  word to the wi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124080"/>
            <a:ext cx="2971800" cy="221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495680" y="2438280"/>
            <a:ext cx="28576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Equitable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r, just embodying principles of just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He did more work, so a sixty-forty split of the profits seemed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quitab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rangemen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ght, reasonable, even hand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76520" y="2292480"/>
            <a:ext cx="3200400" cy="24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Extricate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free from entanglements or difficulties; to move with effo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The ring must have slid off my finger as I was trying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xtric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fish from the n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entangle, extract, diseng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2590920"/>
            <a:ext cx="2200320" cy="2590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495680" y="2743200"/>
            <a:ext cx="2847960" cy="23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Filch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steal, especially in a sneaky way and in petty amount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If you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lc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nnies from the cash drawer, you are unlikely after awhile to be satisfied with only penn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lfer, purloin, swip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2933640" cy="26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Flou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mock, treat with contemp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She chose to ignore my advice, not because she wante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lou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y belief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mnest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quitab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utonom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trica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xiomatic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il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lazon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lou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avea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ractiou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off at, sneer at, snicker at, scor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981080" y="2346480"/>
            <a:ext cx="5257800" cy="37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Fractiou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ding to be troublesome; unruly, quarrelsome, contrary; unpredict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It seems as if the smoothest running organizations contain one or tw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ractio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opl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Synonyms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ractory, recalcitrant, peev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895480"/>
            <a:ext cx="2666880" cy="2440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343400" y="2514600"/>
            <a:ext cx="3809880" cy="31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Amnest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general pardon for an offense against government; any act of forgiveness or abs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Many politicians were freed under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mnes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ranted by the new regim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ct of forgive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857680" cy="40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Autonom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f-government, political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Even after the thirteen colonies gained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utonom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rom England, many Americans clung to English tradi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 r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2563920" cy="49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Axiomatic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f-evident, expressing a universally accepted principle or ru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One should not accept the idea that the camera never lies as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xiomat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r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n for gran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590920"/>
            <a:ext cx="3047760" cy="2340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2590920"/>
            <a:ext cx="3733560" cy="289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Blaz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dorn or embellish; to display conspicuously; to publish or proclaim wide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They wi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laz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results of the election across the internet and every television set in 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7:56:04Z</dcterms:created>
  <dc:creator>NPSD</dc:creator>
  <dc:description/>
  <dc:language>en-US</dc:language>
  <cp:lastModifiedBy>Nancy</cp:lastModifiedBy>
  <dcterms:modified xsi:type="dcterms:W3CDTF">2008-12-28T22:38:59Z</dcterms:modified>
  <cp:revision>8</cp:revision>
  <dc:subject/>
  <dc:title>Level F unit 5 vocabulary part A</dc:title>
</cp:coreProperties>
</file>