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DF2-F773-48FA-A990-1F0F3A45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0B5-3A34-42EA-BDAC-01658A6E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02A-BAD9-48E4-9E60-140A9B9B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DFE-97A7-4445-8E57-A5394D6E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821F-1862-4AC5-AA90-3715AD43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FCCA-00C7-4718-BDC5-BFF52D34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0BF0-D737-46FD-9002-6BF134E8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CBB0-072A-46CE-A145-48945E48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9E8B-E402-4342-967E-ADFA1537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86C4-FF7E-4982-A620-3D54204F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22B6-B940-4047-970E-FEAC8CD3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423-A401-4AB8-BCE5-6095C5BD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FAED-E4D3-47AC-AF56-3BF9DF9A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A527-60EC-4A12-BC3D-362A8BD3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979E-B020-41F9-A4D4-4361D88B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759D-2177-4235-941B-F69DAA1F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A1C2-E3F4-4948-9C83-1D0037BC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BE9-1FBF-40A7-AFF7-E6A2430F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93C-4253-4645-A150-78EA7626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4D1-06C5-4689-8B8B-1EE36B2D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06F-8D40-48FF-BB55-96EF38CD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441-A768-4F7F-985E-019362FB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F06-6014-44A6-ACC4-CEB09902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4DF-B9E9-4CBF-91F4-3FFEF90A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E3F4-B032-4F6D-A759-7F73A27BA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B651-57FE-49E7-9FE0-B8B9F8585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William Shakespear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izabethan The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365760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urtain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main curtain used for various purposes throughout the pl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27432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Trap Door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p Door was used for certain entrances and ex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works were often used as actors entered and exite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3429000" cy="218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Balcony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lcony was also used as part of the staging area.  (i.e. Romeo and Julie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90920" y="2717640"/>
            <a:ext cx="3867120" cy="414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10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Inner Stag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eater had an inner stage which was usually concealed by a cur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tain scenes would be acted out in this inner stag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3041640"/>
            <a:ext cx="6705720" cy="38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Galleries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althy filled the galleries which encircled the yar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lery seats were ju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wooden bench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/o ba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yalty would occasion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 on the stage itself in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ier days of the theat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86400" y="2209680"/>
            <a:ext cx="3657600" cy="2681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 interaction and participation was expected.  Some parts of the scenes were even acted out in the audienc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362320" y="3059280"/>
            <a:ext cx="4495680" cy="379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ughly circular building – designed on the courtyard of an i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ing galleries and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no roof over the central p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33920" y="3800520"/>
            <a:ext cx="1819080" cy="305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stage lighting – plays were held at 2:00 in the after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6350040" cy="3689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n-air theater – performances depended on the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s lasted about 2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785960" cy="13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men did not act in the theater; young boys played the women’s p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1981440" cy="1771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800600" y="396252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ok holders kept the scripts as each actor usually only received his own lines and not a complete script.  Bookholders would help if an actor forgot his lin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38480" y="4038480"/>
            <a:ext cx="1629000" cy="2590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3ff"/>
                </a:solidFill>
                <a:latin typeface="Arial"/>
              </a:rPr>
              <a:t>Orchestra</a:t>
            </a:r>
            <a:br>
              <a:rPr sz="4000"/>
            </a:b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chestra played in an area above the stage (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vel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they play in the pit.  (orchestra p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209680" cy="13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Stage Area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ge area stuck out into the center audience area.  There was a door on either side of the stage for exits and entran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2674800"/>
            <a:ext cx="5943600" cy="418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3ff"/>
                </a:solidFill>
                <a:latin typeface="Arial"/>
              </a:rPr>
              <a:t>Pit Area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yard below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was known 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the poor or common people would stand to wat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loor of this area would often be covered with straw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or were called groundlings, penny knaves, and stink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133880" cy="2514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2:58:55Z</dcterms:created>
  <dc:creator>NPSD</dc:creator>
  <dc:description/>
  <dc:language>en-US</dc:language>
  <cp:lastModifiedBy>NPSD</cp:lastModifiedBy>
  <dcterms:modified xsi:type="dcterms:W3CDTF">2007-06-13T17:03:35Z</dcterms:modified>
  <cp:revision>17</cp:revision>
  <dc:subject/>
  <dc:title>William Shakespeare</dc:title>
</cp:coreProperties>
</file>