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5B9-C026-4888-96DD-EDA92D48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058-58AB-4EAA-B310-28AFFAD0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9A2-BCE7-4148-907D-B69E3CE0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516-EAB1-4AB0-9EA6-33443A95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6AA6-1E33-4412-B98D-A2F77603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F364-0680-47F5-AAF8-3EDA4067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4E0C-E8D1-452E-91A6-214AAE22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E491-483D-4DFE-A55A-91CE828D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6C47-1B35-43B1-8F68-6C4FAED2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2873-8403-4324-9040-E5995582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C2BD-3C28-47D8-9485-384780D7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A56-5278-4C48-AB61-B9CD52BB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DECC-A9A8-4925-9268-FB09F5E6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2D3C-E7F6-4A04-8D57-760CEA20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CB43-4B3D-4112-A978-0513F59D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764C-E987-4E26-95C2-0A048468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5A74-ADA3-4C0E-B47F-9DF04F8F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30F-8BBE-49BF-A46C-CD33D965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13F-CB38-4B34-B61A-F5F187C2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6CD-14A1-49E3-A825-36F21DBE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354-55C2-4FB8-89E0-8B722A32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0F5-385C-4484-86A9-6D81756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957-9F87-4BB8-B1E6-4A38816D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BC70-7A2F-4097-972E-57EF46B8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443E-2CEE-43FC-8E09-07A5BB662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F352-A642-4786-A6DF-6DD7B3AFE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William Shakespear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izabethan The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urtain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main curtain used for various purposes throughout the pl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7432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Trap Door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p Door was used for certain entrances and ex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orks were often used as actors entered and exite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3429000" cy="218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Balcony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lcony was also used as part of the staging area.  (i.e. Romeo and Julie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90920" y="2717640"/>
            <a:ext cx="3867120" cy="414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Inner Stag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eater had an inner stage which was usually concealed by a cur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ain scenes would be acted out in this inner st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3041640"/>
            <a:ext cx="67057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Galleries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lthy filled the galleries which encircled the yar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ery seats were ju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wooden bench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/o ba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yalty would occasion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 on the stage itself in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ier days of the theat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86400" y="2209680"/>
            <a:ext cx="3657600" cy="268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 interaction and participation was expected.  Some parts of the scenes were even acted out in the audienc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362320" y="3059280"/>
            <a:ext cx="4495680" cy="379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ughly circular building – designed on the courtyard of an 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ing galleries and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no roof over the central p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33920" y="3800520"/>
            <a:ext cx="1819080" cy="305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stage lighting – plays were held at 2:00 in the after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6350040" cy="368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-air theater – performances depended on the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s lasted about 2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785960" cy="13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men did not act in the theater; young boys played the women’s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1981440" cy="1771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ok holders kept the scripts as each actor usually only received his own lines and not a complete script.  Bookholders would help if an actor forgot his lin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4038480"/>
            <a:ext cx="1629000" cy="259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Orchestra</a:t>
            </a:r>
            <a:br>
              <a:rPr sz="4000"/>
            </a:b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chestra played in an area above the stage (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ve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they play in the pit.  (orchestra p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209680" cy="13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Stage Area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ge area stuck out into the center audience area.  There was a door on either side of the stage for exits and entra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2674800"/>
            <a:ext cx="5943600" cy="418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Pit Area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yard below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was known 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the poor or common people would stand to wat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loor of this area would often be covered with straw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or were called groundlings, penny knaves, and stink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133880" cy="2514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2:58:55Z</dcterms:created>
  <dc:creator>NPSD</dc:creator>
  <dc:description/>
  <dc:language>en-US</dc:language>
  <cp:lastModifiedBy>NPSD</cp:lastModifiedBy>
  <dcterms:modified xsi:type="dcterms:W3CDTF">2007-06-13T17:03:35Z</dcterms:modified>
  <cp:revision>17</cp:revision>
  <dc:subject/>
  <dc:title>William Shakespeare</dc:title>
</cp:coreProperties>
</file>