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FEC-ABE1-4A43-ACD6-39B6E65B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291-C56C-4474-8BF6-8644A1DE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9A3-8C2F-4226-ACB7-90298161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D39-0413-44C2-9E3E-EBEB0ED8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FC50-AF2F-43EF-A94F-E7B93F12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B0D5-2B7B-4B53-8C92-B362A97F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5E0-1B95-4ABF-9172-EA12DCFD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BE24-9666-493B-82A6-DDF98A26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A8AC-529C-4679-925F-9D8FAA15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B1AA-7914-4385-BEDA-85283CC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EC59-2A94-4127-9F2A-B6749FF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58A-7311-4236-AF53-0CEAB02F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B78F-D70C-4EEB-9435-ADFF133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7112-6522-483D-A8D3-D2C430B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2D2C-998B-4838-895C-8EE898C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5F83-C825-4517-B575-CBD29A83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EC22-760C-476C-A89C-B7B9F9ED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E95-4319-4A30-98AD-940EFCD8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782-5C69-4C8A-A4BF-D888D10C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7FC-0057-406D-96DC-B84307C2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750-63F6-4B2F-9980-1EC4E100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45A-5864-4501-9FBA-FFC25F9B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607-80CD-45D7-90CB-0C4C618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332-403E-489B-8CF0-A8892515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9B4-CD14-466F-9934-C35622245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3B8-C65B-4533-8615-584C83451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illiam Shakespear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izabethan T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urtain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main curtain used for various purposes throughout the pl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rap Doo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p Door was used for certain entrances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orks were often used as actors entered and exite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429000" cy="218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Balcony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lcony was also used as part of the staging area.  (i.e. Romeo and Juli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3867120" cy="41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nner Stag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ater had an inner stage which was usually concealed by a cur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scenes would be acted out in this inner st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3041640"/>
            <a:ext cx="6705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Galleries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filled the galleries which encircled the ya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ery seats were j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wooden ben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/o b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ty would occasion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on the stage itself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r days of the the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657600" cy="26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nteraction and participation was expected.  Some parts of the scenes were even acted out in the audienc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62320" y="305928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ughly circular building – designed on the courtyard of an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ing galleries and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no roof over the central p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800520"/>
            <a:ext cx="181908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stage lighting – plays were held at 2:00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350040" cy="368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-air theater – performances depended on th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s lasted about 2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78596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men did not act in the theater; young boys played the women’s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981440" cy="17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k holders kept the scripts as each actor usually only received his own lines and not a complete script.  Bookholders would help if an actor forgot his lin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62900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Orchestra</a:t>
            </a:r>
            <a:br>
              <a:rPr sz="4000"/>
            </a:b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chestra played in an area above the stage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ve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they play in the pit.  (orchestra p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Stage Area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ge area stuck out into the center audience area.  There was a door on either side of the stage for exits and entra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2674800"/>
            <a:ext cx="5943600" cy="418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Pit Area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rd below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was known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the poor or common people would stand to wat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r of this area would often be covered with straw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or were called groundlings, penny knaves, and stink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133880" cy="25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2:58:55Z</dcterms:created>
  <dc:creator>NPSD</dc:creator>
  <dc:description/>
  <dc:language>en-US</dc:language>
  <cp:lastModifiedBy>NPSD</cp:lastModifiedBy>
  <dcterms:modified xsi:type="dcterms:W3CDTF">2007-06-13T17:03:35Z</dcterms:modified>
  <cp:revision>17</cp:revision>
  <dc:subject/>
  <dc:title>William Shakespeare</dc:title>
</cp:coreProperties>
</file>