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8F7-EDE2-4F02-B2A8-8103F94E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CAF-2173-413C-AC86-EAC8F8E7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0B3-BC07-4B38-BDF5-759877D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914-779F-4D18-92D1-5C09E64F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4C86-80AA-4966-B9F3-65AB441A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9608-D5E3-4D5A-BF1A-DF905B1C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8C9-3DA2-49CA-AC45-8C28446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1A3-A061-41AE-AD1F-D95EC1E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89B-98F6-48BC-84D6-C691A11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FCED-3C9D-4A10-A136-9F16DBC1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6A6F-BDBA-438C-BC69-6101B50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D1B-BF10-46E6-B8B5-213EF8E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BB0D-6763-499F-A068-D469F2A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D0A-F128-4040-AC76-57F31A0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102-3C37-4E67-BE80-028B2BCC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1368-15D7-4E9C-951B-2EC054E5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F71E-B853-4334-8BE6-FCB8693F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B84-0627-4074-BBA5-49E79E44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5A1-1B46-4271-8B18-82ED9E59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2B6-7617-4B4C-A273-14B5580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CCA-B29C-4F69-9B4E-56B4AE33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F75-EE76-4D5F-B239-D52781B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D67-E243-48B7-BF44-6C694FA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58A-036C-464E-8ADB-B3F1AFBD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AB0B-B032-444C-A677-FF162075D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BE54-CD73-4675-B483-FB86E37E7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illiam Shakespear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izabethan T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urtain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main curtain used for various purposes throughout the pl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rap Doo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p Door was used for certain entrances and ex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orks were often used as actors entered and exite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429000" cy="218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Balcony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cony was also used as part of the staging area.  (i.e. Romeo and Juli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90920" y="2717640"/>
            <a:ext cx="3867120" cy="414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nner Stag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ater had an inner stage which was usually concealed by a cur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scenes would be acted out in this inner st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3041640"/>
            <a:ext cx="6705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Galleries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filled the galleries which encircled the yar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ery seats were ju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wooden ben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/o b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ty would occasion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on the stage itself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r days of the theat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3657600" cy="268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nteraction and participation was expected.  Some parts of the scenes were even acted out in the audi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62320" y="3059280"/>
            <a:ext cx="4495680" cy="379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ughly circular building – designed on the courtyard of an i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ing galleries and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no roof over the central p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33920" y="3800520"/>
            <a:ext cx="1819080" cy="30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stage lighting – plays were held at 2:00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350040" cy="368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-air theater – performances depended on the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s lasted about 2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78596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men did not act in the theater; young boys played the women’s p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198144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k holders kept the scripts as each actor usually only received his own lines and not a complete script.  Bookholders would help if an actor forgot his lin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629000" cy="259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Orchestra</a:t>
            </a:r>
            <a:br>
              <a:rPr sz="4000"/>
            </a:b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chestra played in an area above the stage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v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they play in the pit.  (orchestra p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13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Stage Area 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ge area stuck out into the center audience area.  There was a door on either side of the stage for exits and entra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2674800"/>
            <a:ext cx="5943600" cy="418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3ff"/>
                </a:solidFill>
                <a:latin typeface="Arial"/>
              </a:rPr>
              <a:t>Pit Area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rd below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was known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the poor or common people would stand to wat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r of this area would often be covered with straw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or were called groundlings, penny knaves, and stink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133880" cy="2514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2:58:55Z</dcterms:created>
  <dc:creator>NPSD</dc:creator>
  <dc:description/>
  <dc:language>en-US</dc:language>
  <cp:lastModifiedBy>NPSD</cp:lastModifiedBy>
  <dcterms:modified xsi:type="dcterms:W3CDTF">2007-06-13T17:03:35Z</dcterms:modified>
  <cp:revision>17</cp:revision>
  <dc:subject/>
  <dc:title>William Shakespeare</dc:title>
</cp:coreProperties>
</file>