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7.wmf" ContentType="image/x-wmf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BCE5-D9B7-456C-9980-95EAB34F0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469E-FE2B-45C3-8B30-41877FCFD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71B0-4005-4CF2-8C59-45A1734D6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9753-63C0-4929-9DD5-0F4B6F404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90B09-5F48-4BA5-B23C-3A24F138A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05563-6EA2-4F99-8603-29FF3C5FB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72874-FABB-4324-93DE-A5F17F07F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DEBFA-7C8F-4C85-8C1B-B8C3C65DE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4EC80-3B6E-40B4-A3D2-07F9B0CD2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0C6A6-7C20-41AE-9A4C-E3EA63A70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88784-2461-4DF9-8309-67A7B5C1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F686-B545-4F34-A3C8-6C8F2B255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21D5F-8577-47C0-963C-1C021D8E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EF7EF-63D0-48F7-BED7-5DE4C674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AD27B-17ED-454F-B384-630E66625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A8B0A-E001-4BFF-8435-888CBEEB6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8ECA5-3FE4-4A9B-B195-C8D805D29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D180-7033-463D-932F-C6DE4810C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DF13-15CC-412A-81E6-6760ED062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42EA-55F2-4959-A4B3-BD0447DD0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67C5-107C-40AB-88CE-EC1021C9B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7652-7A41-4420-AFC7-24BBAECD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44C9-83F1-4BDE-8502-310DC2FD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AEAF-D3DE-4444-9057-B295C99A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1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33336-88C9-4C00-B134-3310B377A6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48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98400" y="6154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36680" y="6154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65680" y="6154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AF1E2-B152-4910-8595-DF4CB4A55E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09480" y="3324240"/>
            <a:ext cx="8001000" cy="374760"/>
            <a:chOff x="609480" y="3324240"/>
            <a:chExt cx="8001000" cy="374760"/>
          </a:xfrm>
        </p:grpSpPr>
        <p:sp>
          <p:nvSpPr>
            <p:cNvPr id="58" name=""/>
            <p:cNvSpPr/>
            <p:nvPr/>
          </p:nvSpPr>
          <p:spPr>
            <a:xfrm>
              <a:off x="609480" y="3470400"/>
              <a:ext cx="800100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15960" y="3324240"/>
              <a:ext cx="7843680" cy="27792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13500000"/>
            </a:gra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2440" y="3394080"/>
              <a:ext cx="7840440" cy="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2440" y="3470400"/>
              <a:ext cx="7840440" cy="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22440" y="3546360"/>
              <a:ext cx="7840440" cy="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440" y="3379680"/>
              <a:ext cx="7840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2440" y="3456000"/>
              <a:ext cx="7840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22440" y="3532320"/>
              <a:ext cx="7840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BEOWULF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Beowulf%20poster" descr=""/>
          <p:cNvPicPr/>
          <p:nvPr/>
        </p:nvPicPr>
        <p:blipFill>
          <a:blip r:embed="rId1"/>
          <a:stretch/>
        </p:blipFill>
        <p:spPr>
          <a:xfrm>
            <a:off x="2895480" y="1523880"/>
            <a:ext cx="3353040" cy="5029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BEOWULF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is an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PIC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poem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PIC – a long, narrative poem that relates the great deeds of a larger-than-life hero who embodies the values of a particular society.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xamples of other EPICS are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eek “Illiad” an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yssey” – Hom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Homers%20Odyssey" descr=""/>
          <p:cNvPicPr/>
          <p:nvPr/>
        </p:nvPicPr>
        <p:blipFill>
          <a:blip r:embed="rId1"/>
          <a:stretch/>
        </p:blipFill>
        <p:spPr>
          <a:xfrm>
            <a:off x="5181480" y="1371600"/>
            <a:ext cx="2857680" cy="5121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Hobbi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rd of the Ring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Tolkie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lord_of_the_rings_2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5827680" cy="4372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of course there’s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the EPIC HERO!!!!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518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PIC HERO – must undertake a quest to achieve something of tremendous value to himself and his socie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Epic%20Hero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16256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MMARY OF EPIC FEATURES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long narrative po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r than life hero; often with super-human characteris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erns eternal human problems like the struggle between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od and ev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ented in a serious manner using elevated (poetic) langu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ro represents widespread national, cultural, or religious val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PIC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oem  of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OWULF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often divided into 3 sections; it is about Beowulf’s 3 epic battles w/ evil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grendel%20silloet" descr=""/>
          <p:cNvPicPr/>
          <p:nvPr/>
        </p:nvPicPr>
        <p:blipFill>
          <a:blip r:embed="rId1"/>
          <a:stretch/>
        </p:blipFill>
        <p:spPr>
          <a:xfrm>
            <a:off x="3048120" y="2971800"/>
            <a:ext cx="2733480" cy="3581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Battle with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rendel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Grendel represents evi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grendel%20cartoon" descr=""/>
          <p:cNvPicPr/>
          <p:nvPr/>
        </p:nvPicPr>
        <p:blipFill>
          <a:blip r:embed="rId1"/>
          <a:stretch/>
        </p:blipFill>
        <p:spPr>
          <a:xfrm>
            <a:off x="5715000" y="0"/>
            <a:ext cx="3429000" cy="3657600"/>
          </a:xfrm>
          <a:prstGeom prst="rect">
            <a:avLst/>
          </a:prstGeom>
          <a:ln w="0">
            <a:noFill/>
          </a:ln>
        </p:spPr>
      </p:pic>
      <p:pic>
        <p:nvPicPr>
          <p:cNvPr id="145" name="grendel%20in%20Herot" descr=""/>
          <p:cNvPicPr/>
          <p:nvPr/>
        </p:nvPicPr>
        <p:blipFill>
          <a:blip r:embed="rId2"/>
          <a:stretch/>
        </p:blipFill>
        <p:spPr>
          <a:xfrm>
            <a:off x="533520" y="3733920"/>
            <a:ext cx="7543800" cy="2770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Battle with Grendel’s Mother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She also represents evil.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BeowulfGrendelsMom-port" descr=""/>
          <p:cNvPicPr/>
          <p:nvPr/>
        </p:nvPicPr>
        <p:blipFill>
          <a:blip r:embed="rId1"/>
          <a:stretch/>
        </p:blipFill>
        <p:spPr>
          <a:xfrm>
            <a:off x="1523880" y="2133720"/>
            <a:ext cx="6172200" cy="43084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Battle with the Dragon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It not only represents evil but also Greed.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silver-dragon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507996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ust in case you wanted to know,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eowulf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himself represents good: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yal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l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fless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se of just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Beowulf%20killing%20dragon" descr=""/>
          <p:cNvPicPr/>
          <p:nvPr/>
        </p:nvPicPr>
        <p:blipFill>
          <a:blip r:embed="rId1"/>
          <a:stretch/>
        </p:blipFill>
        <p:spPr>
          <a:xfrm>
            <a:off x="3124080" y="1905120"/>
            <a:ext cx="5715000" cy="45241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glo-Saxon Period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nglo-Saxon period is the earliest recorded time period in English history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anglo%20saxon%20ruins" descr=""/>
          <p:cNvPicPr/>
          <p:nvPr/>
        </p:nvPicPr>
        <p:blipFill>
          <a:blip r:embed="rId1"/>
          <a:stretch/>
        </p:blipFill>
        <p:spPr>
          <a:xfrm>
            <a:off x="1752480" y="228600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owulf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Where does it take place? 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atland an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mark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Modern Denmark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Swede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429000" y="1371600"/>
          <a:ext cx="5181480" cy="52196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1371600"/>
                    <a:ext cx="5181480" cy="52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ote</a:t>
            </a:r>
            <a:r>
              <a:rPr b="0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e of the action   takes place in England!!!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cary, Horror Movie “Where” 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Horror%20Scream" descr=""/>
          <p:cNvPicPr/>
          <p:nvPr/>
        </p:nvPicPr>
        <p:blipFill>
          <a:blip r:embed="rId1"/>
          <a:stretch/>
        </p:blipFill>
        <p:spPr>
          <a:xfrm>
            <a:off x="2590920" y="1447920"/>
            <a:ext cx="4092480" cy="51260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212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specifically…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owulf takes place in a “once upon a time world” which taps into “three archetypal sites of fear.”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 The barricaded night house / Mead Hall (Grendel)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mead%20hall" descr=""/>
          <p:cNvPicPr/>
          <p:nvPr/>
        </p:nvPicPr>
        <p:blipFill>
          <a:blip r:embed="rId1"/>
          <a:stretch/>
        </p:blipFill>
        <p:spPr>
          <a:xfrm>
            <a:off x="990720" y="1787400"/>
            <a:ext cx="6476760" cy="50706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 The infested underwater lair (Grendel’s Mother)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dragons-lair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Reptile-taunted rocks of a wilderness and cave (Fire Breathing Dragon)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Beowulf%20killing%20dragon" descr=""/>
          <p:cNvPicPr/>
          <p:nvPr/>
        </p:nvPicPr>
        <p:blipFill>
          <a:blip r:embed="rId1"/>
          <a:stretch/>
        </p:blipFill>
        <p:spPr>
          <a:xfrm>
            <a:off x="1676520" y="2152800"/>
            <a:ext cx="5943600" cy="4705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21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 like to think of them this way, in terms which may mean more to your or my generation:  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ur bed on a story night when we are alone in the house (where we should feel safe.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scary%20bedroom" descr="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724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murky lake or a beach where Jaws takes place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Jaws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238880" cy="52578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Anglo-Saxon period ranges from 449-1066.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t ends with the Battle of Hastings where the French, under the leadership of William the Conqueror invaded England.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dark recesses of the earth:  a cave, or even your own dark basement!!!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basement%20stairs" descr=""/>
          <p:cNvPicPr/>
          <p:nvPr/>
        </p:nvPicPr>
        <p:blipFill>
          <a:blip r:embed="rId1"/>
          <a:stretch/>
        </p:blipFill>
        <p:spPr>
          <a:xfrm>
            <a:off x="2819520" y="2209680"/>
            <a:ext cx="3485880" cy="46483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Y?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y do we read 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owulf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?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’s a very creative, imaginative, poetic masterpiec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gives us insight into the origins of the British people, the culture, who, through seafaring conquests, founded the world we currently live i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gives us insight into the origins of our langua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do we read it?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gives us insight into all people everywhere and throughout time (time, birth, death, fame/success/glory, honor, friendship, conflict, home, country, adventure, spirituality – all of these things transcend English literature and matter to all people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’s challenging and we love a good challenge!!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do we read it?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’s scary and gets us to think about our own worst fea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’s a VERY important piece of literature historically (This is the “because we have to” reason!!)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istic features of Anglo-Saxon Literature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literation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enning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esur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Alliteration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he repetition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of beginning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consonant sounds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in lines of poetry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alliteration" descr=""/>
          <p:cNvPicPr/>
          <p:nvPr/>
        </p:nvPicPr>
        <p:blipFill>
          <a:blip r:embed="rId1"/>
          <a:stretch/>
        </p:blipFill>
        <p:spPr>
          <a:xfrm>
            <a:off x="233280" y="343080"/>
            <a:ext cx="8675640" cy="6172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enn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nn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a metaphorical phrase used to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lace a concrete nou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:  sea = whale’s h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:  battle = spear pla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is like a mini-ridd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whale" descr=""/>
          <p:cNvPicPr/>
          <p:nvPr/>
        </p:nvPicPr>
        <p:blipFill>
          <a:blip r:embed="rId1"/>
          <a:stretch/>
        </p:blipFill>
        <p:spPr>
          <a:xfrm>
            <a:off x="4343400" y="2819520"/>
            <a:ext cx="4521240" cy="32288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Caesura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natural pause in the middle of a line of poetry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part line – each line is separated by a pause or break in the middle of the line; each part generally has 2 strong beats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93480" y="4572000"/>
            <a:ext cx="87512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ut simply,  it is a dramatic pause in the middle of a line.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esura example: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ld English Text MT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ld English Text MT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Old English Text MT"/>
                <a:ea typeface="Times New Roman"/>
              </a:rPr>
              <a:t>Then the Scylding warrior      savage and grim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ld English Text MT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Old English Text MT"/>
                <a:ea typeface="Times New Roman"/>
              </a:rPr>
              <a:t>Seized the ring-hilt      and swung the swo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ld English Text MT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Old English Text MT"/>
                <a:ea typeface="Times New Roman"/>
              </a:rPr>
              <a:t>Struck with fury      despairing of lif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ld English Text MT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Old English Text MT"/>
                <a:ea typeface="Times New Roman"/>
              </a:rPr>
              <a:t>Thrust at the throat      broke through the bone ring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ld English Text MT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Old English Text MT"/>
                <a:ea typeface="Times New Roman"/>
              </a:rPr>
              <a:t>The stout blade stabbed      through her fated flesh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glo-Saxon Literature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w people read in this peri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al tradition – was performed and/or sung by a Bard (Scop) from memory in Old English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why there are ofte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veral versions of th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story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op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poet/minstr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hors were unkn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scop" descr=""/>
          <p:cNvPicPr/>
          <p:nvPr/>
        </p:nvPicPr>
        <p:blipFill>
          <a:blip r:embed="rId1"/>
          <a:stretch/>
        </p:blipFill>
        <p:spPr>
          <a:xfrm>
            <a:off x="5562720" y="3429000"/>
            <a:ext cx="1965240" cy="2743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TORY OF</a:t>
            </a: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OWULF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owul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arks the beginning of English litera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owul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one of the earliest known pieces of literature known in the English language;  written in Old English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s specific Motifs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otif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a motif is a recurring theme or image in a work of literatur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blical and Christian Allu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gan Custo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ial Custo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its of the Warri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owulf Boa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tory of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owulf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sn’t written down until about 700 AD by “The Beowulf Poet” who is unknown.  He wrote down the poem which for many years had been only sung or spoken.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olars believe “The Beowulf Poet” was most likely a Christian monk, thus adding a Christian perspect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Christian%20Monk" descr=""/>
          <p:cNvPicPr/>
          <p:nvPr/>
        </p:nvPicPr>
        <p:blipFill>
          <a:blip r:embed="rId1"/>
          <a:stretch/>
        </p:blipFill>
        <p:spPr>
          <a:xfrm>
            <a:off x="3429000" y="2743200"/>
            <a:ext cx="2000160" cy="32464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28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only one original Beowulf manuscript existing today.  It is in the British History Museum in London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British%20museum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5587920" cy="3682800"/>
          </a:xfrm>
          <a:prstGeom prst="rect">
            <a:avLst/>
          </a:prstGeom>
          <a:ln w="0">
            <a:noFill/>
          </a:ln>
        </p:spPr>
      </p:pic>
      <p:pic>
        <p:nvPicPr>
          <p:cNvPr id="125" name="Beowulf%20Manuscript" descr=""/>
          <p:cNvPicPr/>
          <p:nvPr/>
        </p:nvPicPr>
        <p:blipFill>
          <a:blip r:embed="rId2"/>
          <a:stretch/>
        </p:blipFill>
        <p:spPr>
          <a:xfrm>
            <a:off x="380880" y="1724040"/>
            <a:ext cx="3019680" cy="51339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5T13:25:50Z</dcterms:created>
  <dc:creator>Steve Homeyer</dc:creator>
  <dc:description/>
  <dc:language>en-US</dc:language>
  <cp:lastModifiedBy>NPSD</cp:lastModifiedBy>
  <dcterms:modified xsi:type="dcterms:W3CDTF">2007-10-03T14:28:52Z</dcterms:modified>
  <cp:revision>9</cp:revision>
  <dc:subject/>
  <dc:title>BEOWULF </dc:title>
</cp:coreProperties>
</file>