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wmf" ContentType="image/x-wmf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431-EE5E-4DDC-8753-7B3ED755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E37-2C8A-47FF-A9A6-CD573EFE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B30-11FC-4150-865C-7F84AE4C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B41-C79A-4476-9FAC-F5C441A7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474F-71B7-47F4-A948-A16002D2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9E62-9794-4114-B9D3-6077322D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768B-BE82-48FF-BAC9-9458F12B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7372-59A1-47E6-9BCA-49891734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C488-D036-4D33-AFCE-A3323CCF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5CAE-8B09-4E41-B724-82B9B428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A825-D69A-4AE4-A31D-AE599A37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C111-6DA5-406D-8851-16F27CBE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0FA0-2498-4733-ABA0-3A87263F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AC26-218E-4BC8-8457-703CF841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5B60-FC7B-4B4B-BF80-23A08436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5C3D-D249-498E-85CE-E4C7B1C2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F0C5-FA21-449E-B642-06186E39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AA8-68B5-47E8-9A8C-1E50503F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3AE-2035-4911-BD2E-632AB98F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1A2-2D0D-4B21-BAB4-85761253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8AE-2853-4AA0-8A7D-E70030FB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271-BB60-4210-8CFF-020BE7A1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4AA-319D-4CA0-9E49-AEFCEC6E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EBD4-0384-4B5E-8DC6-9A7A3179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C6F9-3E7D-4E4E-A3AE-EF9C1904D5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EF4E-0D32-46B7-A478-34A196834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Beowulf%20poster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35304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is an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PIC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poem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C – a long, narrative poem that relates the great deeds of a larger-than-life hero who embodies the values of a particular society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s of other EPICS ar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k “Illiad”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yssey” – Hom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Homers%20Odyssey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2857680" cy="5121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obb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rd of the Ring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Tolki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lord_of_the_rings_2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827680" cy="4372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of course there’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the EPIC HERO!!!!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518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C HERO – must undertake a quest to achieve something of tremendous value to himself and his soc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Epic%20Hero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16256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 OF EPIC FEATURE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ng narrative po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r than life hero; often with super-human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rns eternal human problems like the struggle betwee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and ev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ed in a serious manner using elevated (poetic)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o represents widespread national, cultural, or religious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C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em  of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often divided into 3 sections; it is about Beowulf’s 3 epic battles w/ evil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grendel%20silloet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73348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with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endel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Grendel represents evi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grendel%20cartoon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657600"/>
          </a:xfrm>
          <a:prstGeom prst="rect">
            <a:avLst/>
          </a:prstGeom>
          <a:ln w="0">
            <a:noFill/>
          </a:ln>
        </p:spPr>
      </p:pic>
      <p:pic>
        <p:nvPicPr>
          <p:cNvPr id="145" name="grendel%20in%20Herot" descr=""/>
          <p:cNvPicPr/>
          <p:nvPr/>
        </p:nvPicPr>
        <p:blipFill>
          <a:blip r:embed="rId2"/>
          <a:stretch/>
        </p:blipFill>
        <p:spPr>
          <a:xfrm>
            <a:off x="533520" y="3733920"/>
            <a:ext cx="7543800" cy="2770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with Grendel’s Mothe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he also represents evil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BeowulfGrendelsMom-port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172200" cy="4308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with the Drag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It not only represents evil but also Greed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silver-dragon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50799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st in case you wanted to know,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himself represents good: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yal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fless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e of jus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Beowulf%20killing%20dragon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15000" cy="4524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glo-Saxon Perio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nglo-Saxon period is the earliest recorded time period in English histor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anglo%20saxon%20ruins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Where does it take place?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atland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mark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odern Denmar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wed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429000" y="1371600"/>
          <a:ext cx="5181480" cy="5219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371600"/>
                    <a:ext cx="518148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te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e of the action   takes place in England!!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cary, Horror Movie “Where”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Horror%20Scream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4092480" cy="5126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specifically…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 takes place in a “once upon a time world” which taps into “three archetypal sites of fear.”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The barricaded night house / Mead Hall (Grendel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mead%20hall" descr=""/>
          <p:cNvPicPr/>
          <p:nvPr/>
        </p:nvPicPr>
        <p:blipFill>
          <a:blip r:embed="rId1"/>
          <a:stretch/>
        </p:blipFill>
        <p:spPr>
          <a:xfrm>
            <a:off x="990720" y="1787400"/>
            <a:ext cx="6476760" cy="5070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The infested underwater lair (Grendel’s Mother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dragons-lair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ptile-taunted rocks of a wilderness and cave (Fire Breathing Dragon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Beowulf%20killing%20dragon" descr=""/>
          <p:cNvPicPr/>
          <p:nvPr/>
        </p:nvPicPr>
        <p:blipFill>
          <a:blip r:embed="rId1"/>
          <a:stretch/>
        </p:blipFill>
        <p:spPr>
          <a:xfrm>
            <a:off x="1676520" y="2152800"/>
            <a:ext cx="5943600" cy="4705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like to think of them this way, in terms which may mean more to your or my generation: 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ur bed on a story night when we are alone in the house (where we should feel safe.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scary%20bedroom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urky lake or a beach where Jaws takes place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Jaws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nglo-Saxon period ranges from 449-1066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ends with the Battle of Hastings where the French, under the leadership of William the Conqueror invaded England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ark recesses of the earth:  a cave, or even your own dark basement!!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basement%20stairs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348588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?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do we read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a very creative, imaginative, poetic masterpie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gives us insight into the origins of the British people, the culture, who, through seafaring conquests, founded the world we currently live 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gives us insight into the origins of our langu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we read it?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gives us insight into all people everywhere and throughout time (time, birth, death, fame/success/glory, honor, friendship, conflict, home, country, adventure, spirituality – all of these things transcend English literature and matter to all peopl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challenging and we love a good challenge!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we read it?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scary and gets us to think about our own worst fea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a VERY important piece of literature historically (This is the “because we have to” reason!!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 features of Anglo-Saxon Literatur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literati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nn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esur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lliteration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repetition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of beginning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sonant sound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in lines of poetry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alliteration" descr=""/>
          <p:cNvPicPr/>
          <p:nvPr/>
        </p:nvPicPr>
        <p:blipFill>
          <a:blip r:embed="rId1"/>
          <a:stretch/>
        </p:blipFill>
        <p:spPr>
          <a:xfrm>
            <a:off x="233280" y="343080"/>
            <a:ext cx="86756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n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n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a metaphorical phrase used to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 a concrete nou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:  sea = whale’s h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:  battle = spear pla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like a mini-rid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whale" descr=""/>
          <p:cNvPicPr/>
          <p:nvPr/>
        </p:nvPicPr>
        <p:blipFill>
          <a:blip r:embed="rId1"/>
          <a:stretch/>
        </p:blipFill>
        <p:spPr>
          <a:xfrm>
            <a:off x="4343400" y="2819520"/>
            <a:ext cx="4521240" cy="3228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aesura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atural pause in the middle of a line of poetry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part line – each line is separated by a pause or break in the middle of the line; each part generally has 2 strong beat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3480" y="4572000"/>
            <a:ext cx="8751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ut simply,  it is a dramatic pause in the middle of a line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esura example: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Then the Scylding warrior      savage and grim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Seized the ring-hilt      and swung the s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Struck with fury      despairing of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Thrust at the throat      broke through the bone ring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The stout blade stabbed      through her fated flesh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glo-Saxon Literatur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w people read in this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l tradition – was performed and/or sung by a Bard (Scop) from memory in Old Englis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why there are oft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rsions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sto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p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poet/minstr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s were unkn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scop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196524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TORY OF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rks the beginning of English lit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one of the earliest known pieces of literature known in the English language;  written in Old English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specific Motif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tif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 motif is a recurring theme or image in a work of literat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cal and Christian Al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an Cus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Cus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ts of the War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 Boa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tory of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n’t written down until about 700 AD by “The Beowulf Poet” who is unknown.  He wrote down the poem which for many years had been only sung or spoken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olars believe “The Beowulf Poet” was most likely a Christian monk, thus adding a Christian perspect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Christian%20Monk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000160" cy="3246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only one original Beowulf manuscript existing today.  It is in the British History Museum in London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British%20museum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5587920" cy="3682800"/>
          </a:xfrm>
          <a:prstGeom prst="rect">
            <a:avLst/>
          </a:prstGeom>
          <a:ln w="0">
            <a:noFill/>
          </a:ln>
        </p:spPr>
      </p:pic>
      <p:pic>
        <p:nvPicPr>
          <p:cNvPr id="125" name="Beowulf%20Manuscript" descr=""/>
          <p:cNvPicPr/>
          <p:nvPr/>
        </p:nvPicPr>
        <p:blipFill>
          <a:blip r:embed="rId2"/>
          <a:stretch/>
        </p:blipFill>
        <p:spPr>
          <a:xfrm>
            <a:off x="380880" y="1724040"/>
            <a:ext cx="3019680" cy="5133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3:25:50Z</dcterms:created>
  <dc:creator>Steve Homeyer</dc:creator>
  <dc:description/>
  <dc:language>en-US</dc:language>
  <cp:lastModifiedBy>NPSD</cp:lastModifiedBy>
  <dcterms:modified xsi:type="dcterms:W3CDTF">2007-10-03T14:28:52Z</dcterms:modified>
  <cp:revision>9</cp:revision>
  <dc:subject/>
  <dc:title>BEOWULF </dc:title>
</cp:coreProperties>
</file>