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93D-1752-4C54-8CA0-443D7066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236-F92C-46EF-883B-4E70BD25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05A-07C9-48DD-92A3-97EEF439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EB1-5E6F-4F98-8EDB-BDCF0862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CFDA-D140-4AEE-AD8F-E256A612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1DD6-47C3-4FA9-9D24-D50ABCEA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2A79-E430-41A9-B2CA-233CA0D7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0843-52A8-4686-AFAE-91E4B9E0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4A73-C675-41AE-A330-7DDC5844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47FE-8772-4AC0-8812-7D186A40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CB5C-0919-4072-A9E0-0F241C0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C7D-62E0-4596-88FF-AC030903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900C-5288-4561-A002-2A9AF64F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5815-0C18-433E-91F2-075ECDD0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D385-E14A-471A-93E3-59AAF02A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EBA2-D957-41FA-903C-F087A4DC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BB05-89FD-4E82-B248-5E5382B3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FA9-B70A-4411-AB4F-BAA425C4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8E4-FEC5-4BD2-A882-510EB4E5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E09-09B8-4460-8A6E-FEF0DBA2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4FB-2B23-4399-BE15-ED4FAFBF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C77-DC41-4539-9282-ED5CE9DB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090-122B-4F1C-8C0E-D257F0C1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5F9-9F60-4E3A-983F-4C917A30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6C8E-57EF-40EC-BBFF-D5EB6993F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165F-B67E-4E0F-9BB8-F2B31589D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eowulf%20poster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3530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s an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PIC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oem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 – a long, narrative poem that relates the great deeds of a larger-than-life hero who embodies the values of a particular society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 of other EPICS ar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k “Illiad”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yssey” – Hom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Homers%20Odyssey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85768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bb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d of the Ring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olki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lord_of_the_rings_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827680" cy="4372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f course there’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the EPIC HERO!!!!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 HERO – must undertake a quest to achieve something of tremendous value to himself and his soc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Epic%20Hero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1625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 OF EPIC FEATUR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ng narrative po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r than life hero; often with super-huma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rns eternal human problems like the struggle betwee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and ev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d in a serious manner using elevated (poetic)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o represents widespread national, cultural, or religious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em  of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ften divided into 3 sections; it is about Beowulf’s 3 epic battles w/ evil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grendel%20silloet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348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nde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Grendel represents evi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grendel%20cartoon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145" name="grendel%20in%20Herot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7543800" cy="2770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Grendel’s Moth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he also represents evil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eowulfGrendelsMom-port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172200" cy="4308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the Drag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t not only represents evil but also Gree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silver-dragon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50799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 in case you wanted to know,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himself represents good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ya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less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e of jus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Beowulf%20killing%20dragon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15000" cy="452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glo-Saxon Perio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glo-Saxon period is the earliest recorded time period in English histo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nglo%20saxon%20ruins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here does it take place?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atland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mar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odern Denmar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wed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29000" y="1371600"/>
          <a:ext cx="5181480" cy="5219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51814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e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e of the action   takes place in England!!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cary, Horror Movie “Where”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Horror%20Scream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4092480" cy="512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specifically…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takes place in a “once upon a time world” which taps into “three archetypal sites of fear.”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The barricaded night house / Mead Hall (Grendel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mead%20hall" descr=""/>
          <p:cNvPicPr/>
          <p:nvPr/>
        </p:nvPicPr>
        <p:blipFill>
          <a:blip r:embed="rId1"/>
          <a:stretch/>
        </p:blipFill>
        <p:spPr>
          <a:xfrm>
            <a:off x="990720" y="1787400"/>
            <a:ext cx="6476760" cy="507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The infested underwater lair (Grendel’s Mother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dragons-lair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ptile-taunted rocks of a wilderness and cave (Fire Breathing Dragon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Beowulf%20killing%20dragon" descr=""/>
          <p:cNvPicPr/>
          <p:nvPr/>
        </p:nvPicPr>
        <p:blipFill>
          <a:blip r:embed="rId1"/>
          <a:stretch/>
        </p:blipFill>
        <p:spPr>
          <a:xfrm>
            <a:off x="1676520" y="2152800"/>
            <a:ext cx="5943600" cy="4705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like to think of them this way, in terms which may mean more to your or my generation: 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r bed on a story night when we are alone in the house (where we should feel safe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scary%20bedroom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urky lake or a beach where Jaws takes plac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Jaws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nglo-Saxon period ranges from 449-1066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ends with the Battle of Hastings where the French, under the leadership of William the Conqueror invaded England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rk recesses of the earth:  a cave, or even your own dark basement!!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basement%20stairs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3485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?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do we read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a very creative, imaginative, poetic masterpie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the origins of the British people, the culture, who, through seafaring conquests, founded the world we currently live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the origins of our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read it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all people everywhere and throughout time (time, birth, death, fame/success/glory, honor, friendship, conflict, home, country, adventure, spirituality – all of these things transcend English literature and matter to all peop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challenging and we love a good challenge!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read it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scary and gets us to think about our own worst fea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a VERY important piece of literature historically (This is the “because we have to” reason!!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 features of Anglo-Saxon Literatur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lite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nn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esur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lliteratio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repetitio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f beginning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onant sound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n lines of poetry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alliteration" descr=""/>
          <p:cNvPicPr/>
          <p:nvPr/>
        </p:nvPicPr>
        <p:blipFill>
          <a:blip r:embed="rId1"/>
          <a:stretch/>
        </p:blipFill>
        <p:spPr>
          <a:xfrm>
            <a:off x="233280" y="343080"/>
            <a:ext cx="86756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n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n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a metaphorical phrase used to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a concrete nou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 sea = whale’s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 battle = spear pl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like a mini-rid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whale" descr=""/>
          <p:cNvPicPr/>
          <p:nvPr/>
        </p:nvPicPr>
        <p:blipFill>
          <a:blip r:embed="rId1"/>
          <a:stretch/>
        </p:blipFill>
        <p:spPr>
          <a:xfrm>
            <a:off x="4343400" y="2819520"/>
            <a:ext cx="4521240" cy="3228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aesura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atural pause in the middle of a line of poetr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part line – each line is separated by a pause or break in the middle of the line; each part generally has 2 strong bea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3480" y="4572000"/>
            <a:ext cx="8751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ut simply,  it is a dramatic pause in the middle of a line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esura example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en the Scylding warrior      savage and grim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Seized the ring-hilt      and swung the s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Struck with fury      despairing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rust at the throat      broke through the bone ring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e stout blade stabbed      through her fated flesh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glo-Saxon Literatu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 people read in this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l tradition – was performed and/or sung by a Bard (Scop) from memory in Old Englis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why there are oft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rsions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poet/minstr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s were un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scop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19652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ORY OF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rks the beginning of English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ne of the earliest known pieces of literature known in the English language;  written in Old English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specific Motif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tif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 motif is a recurring theme or image in a work of litera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cal and Christian Al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an Cus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Cus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ts of the War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Boa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ory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n’t written down until about 700 AD by “The Beowulf Poet” who is unknown.  He wrote down the poem which for many years had been only sung or spoken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olars believe “The Beowulf Poet” was most likely a Christian monk, thus adding a Christian perspec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Christian%20Monk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00016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only one original Beowulf manuscript existing today.  It is in the British History Museum in Lond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British%20museum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5587920" cy="3682800"/>
          </a:xfrm>
          <a:prstGeom prst="rect">
            <a:avLst/>
          </a:prstGeom>
          <a:ln w="0">
            <a:noFill/>
          </a:ln>
        </p:spPr>
      </p:pic>
      <p:pic>
        <p:nvPicPr>
          <p:cNvPr id="125" name="Beowulf%20Manuscript" descr=""/>
          <p:cNvPicPr/>
          <p:nvPr/>
        </p:nvPicPr>
        <p:blipFill>
          <a:blip r:embed="rId2"/>
          <a:stretch/>
        </p:blipFill>
        <p:spPr>
          <a:xfrm>
            <a:off x="380880" y="1724040"/>
            <a:ext cx="3019680" cy="513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3:25:50Z</dcterms:created>
  <dc:creator>Steve Homeyer</dc:creator>
  <dc:description/>
  <dc:language>en-US</dc:language>
  <cp:lastModifiedBy>NPSD</cp:lastModifiedBy>
  <dcterms:modified xsi:type="dcterms:W3CDTF">2007-10-03T14:28:52Z</dcterms:modified>
  <cp:revision>9</cp:revision>
  <dc:subject/>
  <dc:title>BEOWULF </dc:title>
</cp:coreProperties>
</file>