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DAA5-778C-4AA3-A885-D07FF90E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F0E-C29F-4615-B332-0D055718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423-6D51-442C-8AD5-0AA87467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062-CAA7-4E2B-BB7A-95A64D85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5D5D-39BA-4D90-BF9F-8D5B01DA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8E9E-99E2-4AB6-93AF-D328A9CD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4493-DA6D-4D81-B161-B56FD48C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E057-774E-4FA4-B2C8-56E02DA1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83FB-B36E-4342-9B46-0A45E97A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286F-4493-4F23-97B3-14AD352B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0419-528A-47BA-8F90-FEF9C55D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A71-A22C-4715-A4F9-77D57B9A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769A-0733-471A-9C99-E772641C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C65D-2184-470A-AB1F-8661AB37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005E-BEFA-42D4-A503-23560DBB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D2B5-1EE3-4EF1-8A83-DF003867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4941-C7BC-4523-8F60-9810AA4C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7A3-49BD-45B2-B219-EEC0951C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D16-240E-46CF-91DF-839F0836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1E93-3EF6-4A68-B256-3DC8191F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F59-620D-477C-ABF2-489F4748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050-8E03-410C-A6BD-54DD84D8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BA2-FACD-47F1-B07C-04A260DA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5B7-B414-45F0-9A7F-7F5B6D55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47A0-5F89-471C-9EA9-7BC8728B1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BA44-D708-47F3-BD72-38096FD87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Beowulf%20poster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35304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s an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PIC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poem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 – a long, narrative poem that relates the great deeds of a larger-than-life hero who embodies the values of a particular society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 of other EPICS ar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k “Illiad”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yssey” – Hom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Homers%20Odyssey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2857680" cy="5121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obb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rd of the Ring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Tolki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lord_of_the_rings_2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827680" cy="4372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of course there’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the EPIC HERO!!!!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518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 HERO – must undertake a quest to achieve something of tremendous value to himself and his soc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Epic%20Hero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16256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 OF EPIC FEATUR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ng narrative po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r than life hero; often with super-human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rns eternal human problems like the struggle betwee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and ev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d in a serious manner using elevated (poetic)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o represents widespread national, cultural, or religious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C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em  of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often divided into 3 sections; it is about Beowulf’s 3 epic battles w/ evil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grendel%20silloet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348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nde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Grendel represents evi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grendel%20cartoon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657600"/>
          </a:xfrm>
          <a:prstGeom prst="rect">
            <a:avLst/>
          </a:prstGeom>
          <a:ln w="0">
            <a:noFill/>
          </a:ln>
        </p:spPr>
      </p:pic>
      <p:pic>
        <p:nvPicPr>
          <p:cNvPr id="145" name="grendel%20in%20Herot" descr=""/>
          <p:cNvPicPr/>
          <p:nvPr/>
        </p:nvPicPr>
        <p:blipFill>
          <a:blip r:embed="rId2"/>
          <a:stretch/>
        </p:blipFill>
        <p:spPr>
          <a:xfrm>
            <a:off x="533520" y="3733920"/>
            <a:ext cx="7543800" cy="2770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Grendel’s Moth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he also represents evil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eowulfGrendelsMom-port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172200" cy="4308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with the Drag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It not only represents evil but also Greed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silver-dragon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50799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st in case you wanted to know,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himself represents good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ya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less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e of jus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Beowulf%20killing%20dragon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15000" cy="4524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glo-Saxon Perio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glo-Saxon period is the earliest recorded time period in English histo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anglo%20saxon%20ruins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Where does it take place?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atland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mark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odern Denmar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wed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429000" y="1371600"/>
          <a:ext cx="5181480" cy="5219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371600"/>
                    <a:ext cx="518148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e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e of the action   takes place in England!!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cary, Horror Movie “Where”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Horror%20Scream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4092480" cy="512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specifically…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takes place in a “once upon a time world” which taps into “three archetypal sites of fear.”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The barricaded night house / Mead Hall (Grendel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mead%20hall" descr=""/>
          <p:cNvPicPr/>
          <p:nvPr/>
        </p:nvPicPr>
        <p:blipFill>
          <a:blip r:embed="rId1"/>
          <a:stretch/>
        </p:blipFill>
        <p:spPr>
          <a:xfrm>
            <a:off x="990720" y="1787400"/>
            <a:ext cx="6476760" cy="5070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The infested underwater lair (Grendel’s Mother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dragons-lair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ptile-taunted rocks of a wilderness and cave (Fire Breathing Dragon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Beowulf%20killing%20dragon" descr=""/>
          <p:cNvPicPr/>
          <p:nvPr/>
        </p:nvPicPr>
        <p:blipFill>
          <a:blip r:embed="rId1"/>
          <a:stretch/>
        </p:blipFill>
        <p:spPr>
          <a:xfrm>
            <a:off x="1676520" y="2152800"/>
            <a:ext cx="5943600" cy="4705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like to think of them this way, in terms which may mean more to your or my generation: 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r bed on a story night when we are alone in the house (where we should feel safe.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scary%20bedroom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urky lake or a beach where Jaws takes place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Jaws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nglo-Saxon period ranges from 449-1066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ends with the Battle of Hastings where the French, under the leadership of William the Conqueror invaded England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rk recesses of the earth:  a cave, or even your own dark basement!!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basement%20stairs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34858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?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do we read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a very creative, imaginative, poetic masterpie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the origins of the British people, the culture, who, through seafaring conquests, founded the world we currently live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the origins of our langu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we read it?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ives us insight into all people everywhere and throughout time (time, birth, death, fame/success/glory, honor, friendship, conflict, home, country, adventure, spirituality – all of these things transcend English literature and matter to all peopl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challenging and we love a good challenge!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we read it?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scary and gets us to think about our own worst fea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a VERY important piece of literature historically (This is the “because we have to” reason!!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 features of Anglo-Saxon Literatur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liter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nn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esur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lliteration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repetition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f beginning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onant sound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in lines of poetry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alliteration" descr=""/>
          <p:cNvPicPr/>
          <p:nvPr/>
        </p:nvPicPr>
        <p:blipFill>
          <a:blip r:embed="rId1"/>
          <a:stretch/>
        </p:blipFill>
        <p:spPr>
          <a:xfrm>
            <a:off x="233280" y="343080"/>
            <a:ext cx="86756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n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n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a metaphorical phrase used to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a concrete nou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:  sea = whale’s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:  battle = spear pl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like a mini-rid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whale" descr=""/>
          <p:cNvPicPr/>
          <p:nvPr/>
        </p:nvPicPr>
        <p:blipFill>
          <a:blip r:embed="rId1"/>
          <a:stretch/>
        </p:blipFill>
        <p:spPr>
          <a:xfrm>
            <a:off x="4343400" y="2819520"/>
            <a:ext cx="4521240" cy="3228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aesura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atural pause in the middle of a line of poetr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part line – each line is separated by a pause or break in the middle of the line; each part generally has 2 strong beat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3480" y="4572000"/>
            <a:ext cx="8751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ut simply,  it is a dramatic pause in the middle of a line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esura example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en the Scylding warrior      savage and grim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Seized the ring-hilt      and swung the s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Struck with fury      despairing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rust at the throat      broke through the bone ring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Old English Text MT"/>
                <a:ea typeface="Times New Roman"/>
              </a:rPr>
              <a:t>The stout blade stabbed      through her fated flesh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glo-Saxon Literatur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w people read in this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l tradition – was performed and/or sung by a Bard (Scop) from memory in Old Englis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why there are oft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rsions of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sto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p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poet/minstr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s were un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scop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196524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ORY OF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OWUL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rks the beginning of English lit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one of the earliest known pieces of literature known in the English language;  written in Old English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specific Motif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tif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 motif is a recurring theme or image in a work of litera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cal and Christian Al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an Cus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Cus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its of the War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Boa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ory of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owulf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n’t written down until about 700 AD by “The Beowulf Poet” who is unknown.  He wrote down the poem which for many years had been only sung or spoken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olars believe “The Beowulf Poet” was most likely a Christian monk, thus adding a Christian perspec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Christian%20Monk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000160" cy="3246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only one original Beowulf manuscript existing today.  It is in the British History Museum in London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British%20museum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5587920" cy="3682800"/>
          </a:xfrm>
          <a:prstGeom prst="rect">
            <a:avLst/>
          </a:prstGeom>
          <a:ln w="0">
            <a:noFill/>
          </a:ln>
        </p:spPr>
      </p:pic>
      <p:pic>
        <p:nvPicPr>
          <p:cNvPr id="125" name="Beowulf%20Manuscript" descr=""/>
          <p:cNvPicPr/>
          <p:nvPr/>
        </p:nvPicPr>
        <p:blipFill>
          <a:blip r:embed="rId2"/>
          <a:stretch/>
        </p:blipFill>
        <p:spPr>
          <a:xfrm>
            <a:off x="380880" y="1724040"/>
            <a:ext cx="3019680" cy="513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3:25:50Z</dcterms:created>
  <dc:creator>Steve Homeyer</dc:creator>
  <dc:description/>
  <dc:language>en-US</dc:language>
  <cp:lastModifiedBy>NPSD</cp:lastModifiedBy>
  <dcterms:modified xsi:type="dcterms:W3CDTF">2007-10-03T14:28:52Z</dcterms:modified>
  <cp:revision>9</cp:revision>
  <dc:subject/>
  <dc:title>BEOWULF </dc:title>
</cp:coreProperties>
</file>